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gif" ContentType="image/gif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3.png" ContentType="image/png"/>
  <Override PartName="/ppt/media/image8.png" ContentType="image/png"/>
  <Override PartName="/ppt/media/image13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4333-CE2E-4579-B348-087934B07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89ED-38B2-44D0-82B7-4AE4866C3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FA0E-F4C7-4863-8156-DBE528DD7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1FA8-AEF9-46B5-BBB7-694612D17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81D18-017C-4EB9-A4DC-B5ADF81EA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CC69D-5B08-4B62-9C7A-94D5CE962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8ACD6-AC0E-49E8-B1DB-6640D9B51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1C901-4B53-4D5C-8C46-240EA6446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1D5B5-D055-43DA-9385-97B6AF707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7F3CB-B248-43BA-8DBC-FBB9A14AB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3FF61-0B2F-4FEB-A182-EDB2286F3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78E3-B9C3-42CE-8402-8C22AA00D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603D5-104A-4B7A-9771-2EA6053D4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B6139-3E33-43D7-BEAA-91B866BE7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8A2C1-7221-4D4B-9707-4BE336A01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17764-0041-4F91-BE97-EA9B2107F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AE394-9C60-45C3-A550-40669348D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AB0D-F628-4918-85BB-A7E9558FA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842F-ABBB-47D8-94F2-1275B8EF8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B5AB-46F2-43F9-BA67-E82E5F7E2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C22C-E4D1-4293-A8BA-B13D7C603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FDD3-041B-45CF-B723-C9BFA6190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0221-5CA6-43B2-A944-47C4EB932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0192-FE33-49EE-9EF7-02C93ADC0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DD715-B9B9-428F-991B-F9424D1548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81021-3AB8-47A1-B2D7-4C719C7015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ukm.my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km.my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ukm.my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ukm.my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ukm.my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ukm.my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ukm.my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ukm.my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hyperlink" Target="http://www.ukm.my/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15235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Impact"/>
              </a:rPr>
              <a:t>Linking Course Outcomes to Programme Outcomes</a:t>
            </a:r>
            <a:endParaRPr b="0" lang="en-US" sz="5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33520" y="320040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Handwriting"/>
              </a:rPr>
              <a:t>Prof. Ir. Dr. Wan Hamidon Wan Badaruzzam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8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June 200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6095880"/>
            <a:ext cx="681120" cy="8384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3cccc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efinition of Terms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9160" y="1219320"/>
            <a:ext cx="906768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GRAMME EDUCATIONAL OBJECTIVES (PEO)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  <a:ea typeface="Arial"/>
              </a:rPr>
              <a:t>PEO are broad goals describing expected achievements of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GB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graduates in their career and professional life after graduati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62000" y="5105520"/>
            <a:ext cx="86104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O must be responsive to the expressed interest of various groups of programme stakeholders and linked to P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867280" y="6553080"/>
            <a:ext cx="3276720" cy="304920"/>
          </a:xfrm>
          <a:prstGeom prst="rect">
            <a:avLst/>
          </a:prstGeom>
          <a:solidFill>
            <a:srgbClr val="ffcc66"/>
          </a:solidFill>
          <a:ln cap="sq"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an Hamidon,  June 20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681120" cy="838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3cccc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efinition of Terms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1066680"/>
            <a:ext cx="8382240" cy="33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GRAMME OUTCOMES (PO)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O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are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narrower programme level statement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that describe what students are expected to know and be able to perform or attai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by the time of graduation from the program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4648320"/>
            <a:ext cx="7924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 must be linked to PEO, i.e must directly address the PEO and must encompass certain specified outcomes (Outcomes (a) to (k) of EAC manua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681120" cy="838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3cccc">
                <a:alpha val="50000"/>
              </a:srgbClr>
            </a:outerShdw>
          </a:effectLst>
        </p:spPr>
      </p:pic>
      <p:sp>
        <p:nvSpPr>
          <p:cNvPr id="121" name=""/>
          <p:cNvSpPr/>
          <p:nvPr/>
        </p:nvSpPr>
        <p:spPr>
          <a:xfrm>
            <a:off x="5867280" y="6553080"/>
            <a:ext cx="3276720" cy="304920"/>
          </a:xfrm>
          <a:prstGeom prst="rect">
            <a:avLst/>
          </a:prstGeom>
          <a:solidFill>
            <a:srgbClr val="ffcc66"/>
          </a:solidFill>
          <a:ln cap="sq"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an Hamidon,  June 20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-4037040"/>
            <a:ext cx="9144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BLE 2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-3579840"/>
            <a:ext cx="91440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me Outcomes and Links to Programme Educational Outcom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543800" y="6254640"/>
            <a:ext cx="6858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81680" y="6553080"/>
            <a:ext cx="6858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229600" y="5834160"/>
            <a:ext cx="6858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0" y="380880"/>
            <a:ext cx="9144000" cy="6450120"/>
            <a:chOff x="0" y="380880"/>
            <a:chExt cx="9144000" cy="6450120"/>
          </a:xfrm>
        </p:grpSpPr>
        <p:sp>
          <p:nvSpPr>
            <p:cNvPr id="128" name=""/>
            <p:cNvSpPr/>
            <p:nvPr/>
          </p:nvSpPr>
          <p:spPr>
            <a:xfrm>
              <a:off x="246240" y="380880"/>
              <a:ext cx="6886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 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95680" y="457200"/>
              <a:ext cx="464832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Achievement of PE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96960" y="501480"/>
              <a:ext cx="354492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P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4321080" y="431640"/>
              <a:ext cx="4703400" cy="417600"/>
              <a:chOff x="4321080" y="431640"/>
              <a:chExt cx="4703400" cy="417600"/>
            </a:xfrm>
          </p:grpSpPr>
          <p:sp>
            <p:nvSpPr>
              <p:cNvPr id="132" name=""/>
              <p:cNvSpPr/>
              <p:nvPr/>
            </p:nvSpPr>
            <p:spPr>
              <a:xfrm>
                <a:off x="4340880" y="439200"/>
                <a:ext cx="4663080" cy="40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 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321080" y="431640"/>
                <a:ext cx="4703400" cy="417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240" y="857160"/>
              <a:ext cx="739440" cy="487440"/>
              <a:chOff x="3240" y="857160"/>
              <a:chExt cx="739440" cy="487440"/>
            </a:xfrm>
          </p:grpSpPr>
          <p:sp>
            <p:nvSpPr>
              <p:cNvPr id="135" name=""/>
              <p:cNvSpPr/>
              <p:nvPr/>
            </p:nvSpPr>
            <p:spPr>
              <a:xfrm>
                <a:off x="24120" y="868320"/>
                <a:ext cx="697320" cy="47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 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240" y="857160"/>
                <a:ext cx="739440" cy="487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743040" y="857160"/>
              <a:ext cx="3584160" cy="487440"/>
              <a:chOff x="743040" y="857160"/>
              <a:chExt cx="3584160" cy="487440"/>
            </a:xfrm>
          </p:grpSpPr>
          <p:sp>
            <p:nvSpPr>
              <p:cNvPr id="138" name=""/>
              <p:cNvSpPr/>
              <p:nvPr/>
            </p:nvSpPr>
            <p:spPr>
              <a:xfrm>
                <a:off x="763920" y="868320"/>
                <a:ext cx="3542040" cy="47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43040" y="857160"/>
                <a:ext cx="3584160" cy="487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3240" y="1336680"/>
              <a:ext cx="739440" cy="487440"/>
              <a:chOff x="3240" y="1336680"/>
              <a:chExt cx="739440" cy="487440"/>
            </a:xfrm>
          </p:grpSpPr>
          <p:sp>
            <p:nvSpPr>
              <p:cNvPr id="141" name=""/>
              <p:cNvSpPr/>
              <p:nvPr/>
            </p:nvSpPr>
            <p:spPr>
              <a:xfrm>
                <a:off x="24120" y="1342080"/>
                <a:ext cx="697320" cy="48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240" y="1336680"/>
                <a:ext cx="739440" cy="487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763560" y="1366920"/>
              <a:ext cx="3543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Ability to acquire and apply knowledge of basic science and engineering fundamentals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43040" y="1336680"/>
              <a:ext cx="3584520" cy="4874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5" name=""/>
            <p:cNvGrpSpPr/>
            <p:nvPr/>
          </p:nvGrpSpPr>
          <p:grpSpPr>
            <a:xfrm>
              <a:off x="4321080" y="1336680"/>
              <a:ext cx="796680" cy="487440"/>
              <a:chOff x="4321080" y="1336680"/>
              <a:chExt cx="796680" cy="487440"/>
            </a:xfrm>
          </p:grpSpPr>
          <p:sp>
            <p:nvSpPr>
              <p:cNvPr id="146" name=""/>
              <p:cNvSpPr/>
              <p:nvPr/>
            </p:nvSpPr>
            <p:spPr>
              <a:xfrm>
                <a:off x="4341960" y="1342080"/>
                <a:ext cx="754560" cy="48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1400"/>
                </a:br>
                <a:br>
                  <a:rPr sz="1400"/>
                </a:b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321080" y="1336680"/>
                <a:ext cx="796680" cy="487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5124600" y="1336680"/>
              <a:ext cx="798120" cy="487440"/>
              <a:chOff x="5124600" y="1336680"/>
              <a:chExt cx="798120" cy="487440"/>
            </a:xfrm>
          </p:grpSpPr>
          <p:sp>
            <p:nvSpPr>
              <p:cNvPr id="149" name=""/>
              <p:cNvSpPr/>
              <p:nvPr/>
            </p:nvSpPr>
            <p:spPr>
              <a:xfrm>
                <a:off x="5145480" y="1342080"/>
                <a:ext cx="756000" cy="48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124600" y="1336680"/>
                <a:ext cx="798120" cy="487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5923080" y="1336680"/>
              <a:ext cx="796320" cy="487440"/>
              <a:chOff x="5923080" y="1336680"/>
              <a:chExt cx="796320" cy="487440"/>
            </a:xfrm>
          </p:grpSpPr>
          <p:sp>
            <p:nvSpPr>
              <p:cNvPr id="152" name=""/>
              <p:cNvSpPr/>
              <p:nvPr/>
            </p:nvSpPr>
            <p:spPr>
              <a:xfrm>
                <a:off x="5943960" y="1342080"/>
                <a:ext cx="754200" cy="48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923080" y="1336680"/>
                <a:ext cx="796320" cy="487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6719760" y="1336680"/>
              <a:ext cx="793440" cy="487440"/>
              <a:chOff x="6719760" y="1336680"/>
              <a:chExt cx="793440" cy="487440"/>
            </a:xfrm>
          </p:grpSpPr>
          <p:sp>
            <p:nvSpPr>
              <p:cNvPr id="155" name=""/>
              <p:cNvSpPr/>
              <p:nvPr/>
            </p:nvSpPr>
            <p:spPr>
              <a:xfrm>
                <a:off x="6740640" y="1342080"/>
                <a:ext cx="751320" cy="48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719760" y="1336680"/>
                <a:ext cx="793440" cy="487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7513560" y="1336680"/>
              <a:ext cx="796680" cy="487440"/>
              <a:chOff x="7513560" y="1336680"/>
              <a:chExt cx="796680" cy="487440"/>
            </a:xfrm>
          </p:grpSpPr>
          <p:sp>
            <p:nvSpPr>
              <p:cNvPr id="158" name=""/>
              <p:cNvSpPr/>
              <p:nvPr/>
            </p:nvSpPr>
            <p:spPr>
              <a:xfrm>
                <a:off x="7535160" y="1342080"/>
                <a:ext cx="753840" cy="48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7513560" y="1336680"/>
                <a:ext cx="796680" cy="487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8310600" y="1343160"/>
              <a:ext cx="717120" cy="480960"/>
              <a:chOff x="8310600" y="1343160"/>
              <a:chExt cx="717120" cy="480960"/>
            </a:xfrm>
          </p:grpSpPr>
          <p:sp>
            <p:nvSpPr>
              <p:cNvPr id="161" name=""/>
              <p:cNvSpPr/>
              <p:nvPr/>
            </p:nvSpPr>
            <p:spPr>
              <a:xfrm>
                <a:off x="8326440" y="1348560"/>
                <a:ext cx="685080" cy="47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310600" y="1343160"/>
                <a:ext cx="717120" cy="4809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3" name=""/>
            <p:cNvSpPr/>
            <p:nvPr/>
          </p:nvSpPr>
          <p:spPr>
            <a:xfrm>
              <a:off x="760320" y="1836720"/>
              <a:ext cx="354348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Ability to communicate effectively, not only with engineers but also with the community at large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38360" y="1824120"/>
              <a:ext cx="3585960" cy="4856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4324320" y="1824120"/>
              <a:ext cx="796680" cy="973080"/>
              <a:chOff x="4324320" y="1824120"/>
              <a:chExt cx="796680" cy="973080"/>
            </a:xfrm>
          </p:grpSpPr>
          <p:sp>
            <p:nvSpPr>
              <p:cNvPr id="166" name=""/>
              <p:cNvSpPr/>
              <p:nvPr/>
            </p:nvSpPr>
            <p:spPr>
              <a:xfrm>
                <a:off x="4345200" y="1835280"/>
                <a:ext cx="754560" cy="961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324320" y="1824120"/>
                <a:ext cx="796680" cy="9730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8" name=""/>
            <p:cNvSpPr/>
            <p:nvPr/>
          </p:nvSpPr>
          <p:spPr>
            <a:xfrm>
              <a:off x="730080" y="2309760"/>
              <a:ext cx="354492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Having in-depth technical competence in a specific engineering discipline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38360" y="2795760"/>
              <a:ext cx="3585960" cy="48708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1440" y="5788080"/>
              <a:ext cx="739440" cy="415800"/>
              <a:chOff x="1440" y="5788080"/>
              <a:chExt cx="739440" cy="415800"/>
            </a:xfrm>
          </p:grpSpPr>
          <p:sp>
            <p:nvSpPr>
              <p:cNvPr id="171" name=""/>
              <p:cNvSpPr/>
              <p:nvPr/>
            </p:nvSpPr>
            <p:spPr>
              <a:xfrm>
                <a:off x="22320" y="5793480"/>
                <a:ext cx="697320" cy="41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9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440" y="5788080"/>
                <a:ext cx="739440" cy="415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741240" y="5788080"/>
              <a:ext cx="3584160" cy="415800"/>
              <a:chOff x="741240" y="5788080"/>
              <a:chExt cx="3584160" cy="415800"/>
            </a:xfrm>
          </p:grpSpPr>
          <p:sp>
            <p:nvSpPr>
              <p:cNvPr id="174" name=""/>
              <p:cNvSpPr/>
              <p:nvPr/>
            </p:nvSpPr>
            <p:spPr>
              <a:xfrm>
                <a:off x="762120" y="5793480"/>
                <a:ext cx="3542040" cy="41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Ability to design and conduct experiments, as well as to analyse and interpret data.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41240" y="5788080"/>
                <a:ext cx="3584160" cy="415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4325760" y="5788080"/>
              <a:ext cx="796680" cy="415800"/>
              <a:chOff x="4325760" y="5788080"/>
              <a:chExt cx="796680" cy="415800"/>
            </a:xfrm>
          </p:grpSpPr>
          <p:sp>
            <p:nvSpPr>
              <p:cNvPr id="177" name=""/>
              <p:cNvSpPr/>
              <p:nvPr/>
            </p:nvSpPr>
            <p:spPr>
              <a:xfrm>
                <a:off x="4346640" y="5793480"/>
                <a:ext cx="754560" cy="41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325760" y="5788080"/>
                <a:ext cx="796680" cy="415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5122800" y="5788080"/>
              <a:ext cx="798120" cy="415800"/>
              <a:chOff x="5122800" y="5788080"/>
              <a:chExt cx="798120" cy="415800"/>
            </a:xfrm>
          </p:grpSpPr>
          <p:sp>
            <p:nvSpPr>
              <p:cNvPr id="180" name=""/>
              <p:cNvSpPr/>
              <p:nvPr/>
            </p:nvSpPr>
            <p:spPr>
              <a:xfrm>
                <a:off x="5143680" y="5793480"/>
                <a:ext cx="756000" cy="41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122800" y="5788080"/>
                <a:ext cx="798120" cy="415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5921280" y="5788080"/>
              <a:ext cx="796680" cy="415800"/>
              <a:chOff x="5921280" y="5788080"/>
              <a:chExt cx="796680" cy="415800"/>
            </a:xfrm>
          </p:grpSpPr>
          <p:sp>
            <p:nvSpPr>
              <p:cNvPr id="183" name=""/>
              <p:cNvSpPr/>
              <p:nvPr/>
            </p:nvSpPr>
            <p:spPr>
              <a:xfrm>
                <a:off x="5942160" y="5793480"/>
                <a:ext cx="754560" cy="41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921280" y="5788080"/>
                <a:ext cx="796680" cy="415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6711840" y="5788080"/>
              <a:ext cx="793440" cy="415800"/>
              <a:chOff x="6711840" y="5788080"/>
              <a:chExt cx="793440" cy="415800"/>
            </a:xfrm>
          </p:grpSpPr>
          <p:sp>
            <p:nvSpPr>
              <p:cNvPr id="186" name=""/>
              <p:cNvSpPr/>
              <p:nvPr/>
            </p:nvSpPr>
            <p:spPr>
              <a:xfrm>
                <a:off x="6732720" y="5793480"/>
                <a:ext cx="751320" cy="41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711840" y="5788080"/>
                <a:ext cx="793440" cy="415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7512120" y="5788080"/>
              <a:ext cx="796320" cy="415800"/>
              <a:chOff x="7512120" y="5788080"/>
              <a:chExt cx="796320" cy="415800"/>
            </a:xfrm>
          </p:grpSpPr>
          <p:sp>
            <p:nvSpPr>
              <p:cNvPr id="189" name=""/>
              <p:cNvSpPr/>
              <p:nvPr/>
            </p:nvSpPr>
            <p:spPr>
              <a:xfrm>
                <a:off x="7533720" y="5793480"/>
                <a:ext cx="753480" cy="41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512120" y="5788080"/>
                <a:ext cx="796320" cy="415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8308800" y="5788080"/>
              <a:ext cx="715680" cy="415800"/>
              <a:chOff x="8308800" y="5788080"/>
              <a:chExt cx="715680" cy="415800"/>
            </a:xfrm>
          </p:grpSpPr>
          <p:sp>
            <p:nvSpPr>
              <p:cNvPr id="192" name=""/>
              <p:cNvSpPr/>
              <p:nvPr/>
            </p:nvSpPr>
            <p:spPr>
              <a:xfrm>
                <a:off x="8324640" y="5793480"/>
                <a:ext cx="684000" cy="41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308800" y="5788080"/>
                <a:ext cx="715680" cy="415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1440" y="6203880"/>
              <a:ext cx="739440" cy="347760"/>
              <a:chOff x="1440" y="6203880"/>
              <a:chExt cx="739440" cy="347760"/>
            </a:xfrm>
          </p:grpSpPr>
          <p:sp>
            <p:nvSpPr>
              <p:cNvPr id="195" name=""/>
              <p:cNvSpPr/>
              <p:nvPr/>
            </p:nvSpPr>
            <p:spPr>
              <a:xfrm>
                <a:off x="22320" y="6210000"/>
                <a:ext cx="6973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1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440" y="6203880"/>
                <a:ext cx="73944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741240" y="6203880"/>
              <a:ext cx="3584160" cy="347760"/>
              <a:chOff x="741240" y="6203880"/>
              <a:chExt cx="3584160" cy="347760"/>
            </a:xfrm>
          </p:grpSpPr>
          <p:sp>
            <p:nvSpPr>
              <p:cNvPr id="198" name=""/>
              <p:cNvSpPr/>
              <p:nvPr/>
            </p:nvSpPr>
            <p:spPr>
              <a:xfrm>
                <a:off x="762120" y="6210000"/>
                <a:ext cx="3542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Ability to function on multi-disciplinary teams.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41240" y="6203880"/>
                <a:ext cx="358416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4325760" y="6203880"/>
              <a:ext cx="796680" cy="347760"/>
              <a:chOff x="4325760" y="6203880"/>
              <a:chExt cx="796680" cy="347760"/>
            </a:xfrm>
          </p:grpSpPr>
          <p:sp>
            <p:nvSpPr>
              <p:cNvPr id="201" name=""/>
              <p:cNvSpPr/>
              <p:nvPr/>
            </p:nvSpPr>
            <p:spPr>
              <a:xfrm>
                <a:off x="4346640" y="6210000"/>
                <a:ext cx="75456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325760" y="6203880"/>
                <a:ext cx="79668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5122800" y="6203880"/>
              <a:ext cx="798120" cy="347760"/>
              <a:chOff x="5122800" y="6203880"/>
              <a:chExt cx="798120" cy="347760"/>
            </a:xfrm>
          </p:grpSpPr>
          <p:sp>
            <p:nvSpPr>
              <p:cNvPr id="204" name=""/>
              <p:cNvSpPr/>
              <p:nvPr/>
            </p:nvSpPr>
            <p:spPr>
              <a:xfrm>
                <a:off x="5143680" y="6210000"/>
                <a:ext cx="7560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122800" y="6203880"/>
                <a:ext cx="7981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5921280" y="6203880"/>
              <a:ext cx="796680" cy="347760"/>
              <a:chOff x="5921280" y="6203880"/>
              <a:chExt cx="796680" cy="347760"/>
            </a:xfrm>
          </p:grpSpPr>
          <p:sp>
            <p:nvSpPr>
              <p:cNvPr id="207" name=""/>
              <p:cNvSpPr/>
              <p:nvPr/>
            </p:nvSpPr>
            <p:spPr>
              <a:xfrm>
                <a:off x="5942160" y="6210000"/>
                <a:ext cx="75456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921280" y="6203880"/>
                <a:ext cx="79668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6718320" y="6203880"/>
              <a:ext cx="793440" cy="347760"/>
              <a:chOff x="6718320" y="6203880"/>
              <a:chExt cx="793440" cy="347760"/>
            </a:xfrm>
          </p:grpSpPr>
          <p:sp>
            <p:nvSpPr>
              <p:cNvPr id="210" name=""/>
              <p:cNvSpPr/>
              <p:nvPr/>
            </p:nvSpPr>
            <p:spPr>
              <a:xfrm>
                <a:off x="6739200" y="6210000"/>
                <a:ext cx="7513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718320" y="6203880"/>
                <a:ext cx="79344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7512120" y="6203880"/>
              <a:ext cx="796320" cy="347760"/>
              <a:chOff x="7512120" y="6203880"/>
              <a:chExt cx="796320" cy="347760"/>
            </a:xfrm>
          </p:grpSpPr>
          <p:sp>
            <p:nvSpPr>
              <p:cNvPr id="213" name=""/>
              <p:cNvSpPr/>
              <p:nvPr/>
            </p:nvSpPr>
            <p:spPr>
              <a:xfrm>
                <a:off x="7533720" y="6210000"/>
                <a:ext cx="7534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512120" y="6203880"/>
                <a:ext cx="7963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8308800" y="6203880"/>
              <a:ext cx="715680" cy="347760"/>
              <a:chOff x="8308800" y="6203880"/>
              <a:chExt cx="715680" cy="347760"/>
            </a:xfrm>
          </p:grpSpPr>
          <p:sp>
            <p:nvSpPr>
              <p:cNvPr id="216" name=""/>
              <p:cNvSpPr/>
              <p:nvPr/>
            </p:nvSpPr>
            <p:spPr>
              <a:xfrm>
                <a:off x="8324640" y="6210000"/>
                <a:ext cx="6840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308800" y="6203880"/>
                <a:ext cx="71568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1440" y="6551640"/>
              <a:ext cx="739440" cy="279360"/>
              <a:chOff x="1440" y="6551640"/>
              <a:chExt cx="739440" cy="279360"/>
            </a:xfrm>
          </p:grpSpPr>
          <p:sp>
            <p:nvSpPr>
              <p:cNvPr id="219" name=""/>
              <p:cNvSpPr/>
              <p:nvPr/>
            </p:nvSpPr>
            <p:spPr>
              <a:xfrm>
                <a:off x="22320" y="6556320"/>
                <a:ext cx="6973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1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440" y="6551640"/>
                <a:ext cx="739440" cy="279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741240" y="6551640"/>
              <a:ext cx="3584160" cy="279360"/>
              <a:chOff x="741240" y="6551640"/>
              <a:chExt cx="3584160" cy="279360"/>
            </a:xfrm>
          </p:grpSpPr>
          <p:sp>
            <p:nvSpPr>
              <p:cNvPr id="222" name=""/>
              <p:cNvSpPr/>
              <p:nvPr/>
            </p:nvSpPr>
            <p:spPr>
              <a:xfrm>
                <a:off x="762120" y="6556320"/>
                <a:ext cx="3542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Having the knowledge of contemporary issues.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41240" y="6551640"/>
                <a:ext cx="3584160" cy="279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4325760" y="6551640"/>
              <a:ext cx="796680" cy="279360"/>
              <a:chOff x="4325760" y="6551640"/>
              <a:chExt cx="796680" cy="279360"/>
            </a:xfrm>
          </p:grpSpPr>
          <p:sp>
            <p:nvSpPr>
              <p:cNvPr id="225" name=""/>
              <p:cNvSpPr/>
              <p:nvPr/>
            </p:nvSpPr>
            <p:spPr>
              <a:xfrm>
                <a:off x="4346640" y="6556320"/>
                <a:ext cx="7545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325760" y="6551640"/>
                <a:ext cx="796680" cy="279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5122800" y="6551640"/>
              <a:ext cx="798120" cy="279360"/>
              <a:chOff x="5122800" y="6551640"/>
              <a:chExt cx="798120" cy="279360"/>
            </a:xfrm>
          </p:grpSpPr>
          <p:sp>
            <p:nvSpPr>
              <p:cNvPr id="228" name=""/>
              <p:cNvSpPr/>
              <p:nvPr/>
            </p:nvSpPr>
            <p:spPr>
              <a:xfrm>
                <a:off x="5143680" y="6556320"/>
                <a:ext cx="7560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122800" y="6551640"/>
                <a:ext cx="798120" cy="279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5921280" y="6551640"/>
              <a:ext cx="796680" cy="279360"/>
              <a:chOff x="5921280" y="6551640"/>
              <a:chExt cx="796680" cy="279360"/>
            </a:xfrm>
          </p:grpSpPr>
          <p:sp>
            <p:nvSpPr>
              <p:cNvPr id="231" name=""/>
              <p:cNvSpPr/>
              <p:nvPr/>
            </p:nvSpPr>
            <p:spPr>
              <a:xfrm>
                <a:off x="5942160" y="6556320"/>
                <a:ext cx="7545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921280" y="6551640"/>
                <a:ext cx="796680" cy="279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6718320" y="6551640"/>
              <a:ext cx="793440" cy="279360"/>
              <a:chOff x="6718320" y="6551640"/>
              <a:chExt cx="793440" cy="279360"/>
            </a:xfrm>
          </p:grpSpPr>
          <p:sp>
            <p:nvSpPr>
              <p:cNvPr id="234" name=""/>
              <p:cNvSpPr/>
              <p:nvPr/>
            </p:nvSpPr>
            <p:spPr>
              <a:xfrm>
                <a:off x="6739200" y="6556320"/>
                <a:ext cx="7513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718320" y="6551640"/>
                <a:ext cx="793440" cy="279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7512120" y="6551640"/>
              <a:ext cx="796320" cy="279360"/>
              <a:chOff x="7512120" y="6551640"/>
              <a:chExt cx="796320" cy="279360"/>
            </a:xfrm>
          </p:grpSpPr>
          <p:sp>
            <p:nvSpPr>
              <p:cNvPr id="237" name=""/>
              <p:cNvSpPr/>
              <p:nvPr/>
            </p:nvSpPr>
            <p:spPr>
              <a:xfrm>
                <a:off x="7533720" y="6556320"/>
                <a:ext cx="7534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512120" y="6551640"/>
                <a:ext cx="796320" cy="279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8308800" y="6551640"/>
              <a:ext cx="715680" cy="279360"/>
              <a:chOff x="8308800" y="6551640"/>
              <a:chExt cx="715680" cy="279360"/>
            </a:xfrm>
          </p:grpSpPr>
          <p:sp>
            <p:nvSpPr>
              <p:cNvPr id="240" name=""/>
              <p:cNvSpPr/>
              <p:nvPr/>
            </p:nvSpPr>
            <p:spPr>
              <a:xfrm>
                <a:off x="8324640" y="6556320"/>
                <a:ext cx="6840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308800" y="6551640"/>
                <a:ext cx="715680" cy="279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2" name=""/>
            <p:cNvSpPr/>
            <p:nvPr/>
          </p:nvSpPr>
          <p:spPr>
            <a:xfrm>
              <a:off x="4398840" y="1406520"/>
              <a:ext cx="61596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√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945040" y="1446120"/>
              <a:ext cx="69372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√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3240" y="1824120"/>
              <a:ext cx="739440" cy="485640"/>
              <a:chOff x="3240" y="1824120"/>
              <a:chExt cx="739440" cy="485640"/>
            </a:xfrm>
          </p:grpSpPr>
          <p:sp>
            <p:nvSpPr>
              <p:cNvPr id="245" name=""/>
              <p:cNvSpPr/>
              <p:nvPr/>
            </p:nvSpPr>
            <p:spPr>
              <a:xfrm>
                <a:off x="24120" y="1829520"/>
                <a:ext cx="697320" cy="48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240" y="1824120"/>
                <a:ext cx="739440" cy="485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7" name=""/>
            <p:cNvSpPr/>
            <p:nvPr/>
          </p:nvSpPr>
          <p:spPr>
            <a:xfrm>
              <a:off x="738360" y="2311560"/>
              <a:ext cx="3585960" cy="4856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3240" y="2309760"/>
              <a:ext cx="739440" cy="487440"/>
              <a:chOff x="3240" y="2309760"/>
              <a:chExt cx="739440" cy="487440"/>
            </a:xfrm>
          </p:grpSpPr>
          <p:sp>
            <p:nvSpPr>
              <p:cNvPr id="249" name=""/>
              <p:cNvSpPr/>
              <p:nvPr/>
            </p:nvSpPr>
            <p:spPr>
              <a:xfrm>
                <a:off x="24120" y="2315160"/>
                <a:ext cx="697320" cy="48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3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240" y="2309760"/>
                <a:ext cx="739440" cy="487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1" name=""/>
            <p:cNvGrpSpPr/>
            <p:nvPr/>
          </p:nvGrpSpPr>
          <p:grpSpPr>
            <a:xfrm>
              <a:off x="4321080" y="1824120"/>
              <a:ext cx="796680" cy="485640"/>
              <a:chOff x="4321080" y="1824120"/>
              <a:chExt cx="796680" cy="485640"/>
            </a:xfrm>
          </p:grpSpPr>
          <p:sp>
            <p:nvSpPr>
              <p:cNvPr id="252" name=""/>
              <p:cNvSpPr/>
              <p:nvPr/>
            </p:nvSpPr>
            <p:spPr>
              <a:xfrm>
                <a:off x="4341960" y="1829520"/>
                <a:ext cx="754560" cy="48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1400"/>
                </a:br>
                <a:br>
                  <a:rPr sz="1400"/>
                </a:b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321080" y="1824120"/>
                <a:ext cx="796680" cy="485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4321080" y="2309760"/>
              <a:ext cx="796680" cy="487440"/>
              <a:chOff x="4321080" y="2309760"/>
              <a:chExt cx="796680" cy="487440"/>
            </a:xfrm>
          </p:grpSpPr>
          <p:sp>
            <p:nvSpPr>
              <p:cNvPr id="255" name=""/>
              <p:cNvSpPr/>
              <p:nvPr/>
            </p:nvSpPr>
            <p:spPr>
              <a:xfrm>
                <a:off x="4341960" y="2315160"/>
                <a:ext cx="754560" cy="48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1400"/>
                </a:br>
                <a:br>
                  <a:rPr sz="1400"/>
                </a:b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321080" y="2309760"/>
                <a:ext cx="796680" cy="487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5121360" y="1824120"/>
              <a:ext cx="798120" cy="485640"/>
              <a:chOff x="5121360" y="1824120"/>
              <a:chExt cx="798120" cy="485640"/>
            </a:xfrm>
          </p:grpSpPr>
          <p:sp>
            <p:nvSpPr>
              <p:cNvPr id="258" name=""/>
              <p:cNvSpPr/>
              <p:nvPr/>
            </p:nvSpPr>
            <p:spPr>
              <a:xfrm>
                <a:off x="5142240" y="1829520"/>
                <a:ext cx="756000" cy="48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121360" y="1824120"/>
                <a:ext cx="798120" cy="485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5925960" y="1824120"/>
              <a:ext cx="796680" cy="485640"/>
              <a:chOff x="5925960" y="1824120"/>
              <a:chExt cx="796680" cy="485640"/>
            </a:xfrm>
          </p:grpSpPr>
          <p:sp>
            <p:nvSpPr>
              <p:cNvPr id="261" name=""/>
              <p:cNvSpPr/>
              <p:nvPr/>
            </p:nvSpPr>
            <p:spPr>
              <a:xfrm>
                <a:off x="5946840" y="1829520"/>
                <a:ext cx="754560" cy="48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925960" y="1824120"/>
                <a:ext cx="796680" cy="485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3" name=""/>
            <p:cNvGrpSpPr/>
            <p:nvPr/>
          </p:nvGrpSpPr>
          <p:grpSpPr>
            <a:xfrm>
              <a:off x="6711840" y="1824120"/>
              <a:ext cx="793440" cy="485640"/>
              <a:chOff x="6711840" y="1824120"/>
              <a:chExt cx="793440" cy="485640"/>
            </a:xfrm>
          </p:grpSpPr>
          <p:sp>
            <p:nvSpPr>
              <p:cNvPr id="264" name=""/>
              <p:cNvSpPr/>
              <p:nvPr/>
            </p:nvSpPr>
            <p:spPr>
              <a:xfrm>
                <a:off x="6732720" y="1829520"/>
                <a:ext cx="751320" cy="48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711840" y="1824120"/>
                <a:ext cx="793440" cy="485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7512120" y="1824120"/>
              <a:ext cx="796320" cy="485640"/>
              <a:chOff x="7512120" y="1824120"/>
              <a:chExt cx="796320" cy="485640"/>
            </a:xfrm>
          </p:grpSpPr>
          <p:sp>
            <p:nvSpPr>
              <p:cNvPr id="267" name=""/>
              <p:cNvSpPr/>
              <p:nvPr/>
            </p:nvSpPr>
            <p:spPr>
              <a:xfrm>
                <a:off x="7533720" y="1829520"/>
                <a:ext cx="753480" cy="48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7512120" y="1824120"/>
                <a:ext cx="796320" cy="485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9" name=""/>
            <p:cNvSpPr/>
            <p:nvPr/>
          </p:nvSpPr>
          <p:spPr>
            <a:xfrm>
              <a:off x="741240" y="2827440"/>
              <a:ext cx="354348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Ability to undertake problem identification, formulation and solution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0" name=""/>
            <p:cNvGrpSpPr/>
            <p:nvPr/>
          </p:nvGrpSpPr>
          <p:grpSpPr>
            <a:xfrm>
              <a:off x="3240" y="2797200"/>
              <a:ext cx="739440" cy="485640"/>
              <a:chOff x="3240" y="2797200"/>
              <a:chExt cx="739440" cy="485640"/>
            </a:xfrm>
          </p:grpSpPr>
          <p:sp>
            <p:nvSpPr>
              <p:cNvPr id="271" name=""/>
              <p:cNvSpPr/>
              <p:nvPr/>
            </p:nvSpPr>
            <p:spPr>
              <a:xfrm>
                <a:off x="24120" y="2802600"/>
                <a:ext cx="697320" cy="48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4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240" y="2797200"/>
                <a:ext cx="739440" cy="485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8307360" y="1824120"/>
              <a:ext cx="717120" cy="480960"/>
              <a:chOff x="8307360" y="1824120"/>
              <a:chExt cx="717120" cy="480960"/>
            </a:xfrm>
          </p:grpSpPr>
          <p:sp>
            <p:nvSpPr>
              <p:cNvPr id="274" name=""/>
              <p:cNvSpPr/>
              <p:nvPr/>
            </p:nvSpPr>
            <p:spPr>
              <a:xfrm>
                <a:off x="8323200" y="1829520"/>
                <a:ext cx="685080" cy="47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8307360" y="1824120"/>
                <a:ext cx="717120" cy="4809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8307360" y="2309760"/>
              <a:ext cx="717120" cy="487440"/>
              <a:chOff x="8307360" y="2309760"/>
              <a:chExt cx="717120" cy="487440"/>
            </a:xfrm>
          </p:grpSpPr>
          <p:sp>
            <p:nvSpPr>
              <p:cNvPr id="277" name=""/>
              <p:cNvSpPr/>
              <p:nvPr/>
            </p:nvSpPr>
            <p:spPr>
              <a:xfrm>
                <a:off x="8323200" y="2315160"/>
                <a:ext cx="685080" cy="48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8307360" y="2309760"/>
                <a:ext cx="717120" cy="487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5925960" y="2309760"/>
              <a:ext cx="796680" cy="487440"/>
              <a:chOff x="5925960" y="2309760"/>
              <a:chExt cx="796680" cy="487440"/>
            </a:xfrm>
          </p:grpSpPr>
          <p:sp>
            <p:nvSpPr>
              <p:cNvPr id="280" name=""/>
              <p:cNvSpPr/>
              <p:nvPr/>
            </p:nvSpPr>
            <p:spPr>
              <a:xfrm>
                <a:off x="5946840" y="2315160"/>
                <a:ext cx="754560" cy="48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925960" y="2309760"/>
                <a:ext cx="796680" cy="487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6711840" y="2309760"/>
              <a:ext cx="793440" cy="487440"/>
              <a:chOff x="6711840" y="2309760"/>
              <a:chExt cx="793440" cy="487440"/>
            </a:xfrm>
          </p:grpSpPr>
          <p:sp>
            <p:nvSpPr>
              <p:cNvPr id="283" name=""/>
              <p:cNvSpPr/>
              <p:nvPr/>
            </p:nvSpPr>
            <p:spPr>
              <a:xfrm>
                <a:off x="6732720" y="2315160"/>
                <a:ext cx="751320" cy="48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711840" y="2309760"/>
                <a:ext cx="793440" cy="487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8307360" y="2790720"/>
              <a:ext cx="717120" cy="487440"/>
              <a:chOff x="8307360" y="2790720"/>
              <a:chExt cx="717120" cy="487440"/>
            </a:xfrm>
          </p:grpSpPr>
          <p:sp>
            <p:nvSpPr>
              <p:cNvPr id="286" name=""/>
              <p:cNvSpPr/>
              <p:nvPr/>
            </p:nvSpPr>
            <p:spPr>
              <a:xfrm>
                <a:off x="8323200" y="2796120"/>
                <a:ext cx="685080" cy="48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8307360" y="2790720"/>
                <a:ext cx="717120" cy="487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6711840" y="2805120"/>
              <a:ext cx="793440" cy="487440"/>
              <a:chOff x="6711840" y="2805120"/>
              <a:chExt cx="793440" cy="487440"/>
            </a:xfrm>
          </p:grpSpPr>
          <p:sp>
            <p:nvSpPr>
              <p:cNvPr id="289" name=""/>
              <p:cNvSpPr/>
              <p:nvPr/>
            </p:nvSpPr>
            <p:spPr>
              <a:xfrm>
                <a:off x="6732720" y="2810520"/>
                <a:ext cx="751320" cy="48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711840" y="2805120"/>
                <a:ext cx="793440" cy="487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5121360" y="2309760"/>
              <a:ext cx="798120" cy="487440"/>
              <a:chOff x="5121360" y="2309760"/>
              <a:chExt cx="798120" cy="487440"/>
            </a:xfrm>
          </p:grpSpPr>
          <p:sp>
            <p:nvSpPr>
              <p:cNvPr id="292" name=""/>
              <p:cNvSpPr/>
              <p:nvPr/>
            </p:nvSpPr>
            <p:spPr>
              <a:xfrm>
                <a:off x="5142240" y="2315160"/>
                <a:ext cx="756000" cy="48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121360" y="2309760"/>
                <a:ext cx="798120" cy="487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5111640" y="2797200"/>
              <a:ext cx="798120" cy="485640"/>
              <a:chOff x="5111640" y="2797200"/>
              <a:chExt cx="798120" cy="485640"/>
            </a:xfrm>
          </p:grpSpPr>
          <p:sp>
            <p:nvSpPr>
              <p:cNvPr id="295" name=""/>
              <p:cNvSpPr/>
              <p:nvPr/>
            </p:nvSpPr>
            <p:spPr>
              <a:xfrm>
                <a:off x="5132520" y="2802600"/>
                <a:ext cx="756000" cy="48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111640" y="2797200"/>
                <a:ext cx="798120" cy="485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7502400" y="2309760"/>
              <a:ext cx="796680" cy="487440"/>
              <a:chOff x="7502400" y="2309760"/>
              <a:chExt cx="796680" cy="487440"/>
            </a:xfrm>
          </p:grpSpPr>
          <p:sp>
            <p:nvSpPr>
              <p:cNvPr id="298" name=""/>
              <p:cNvSpPr/>
              <p:nvPr/>
            </p:nvSpPr>
            <p:spPr>
              <a:xfrm>
                <a:off x="7524000" y="2315160"/>
                <a:ext cx="753840" cy="48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7502400" y="2309760"/>
                <a:ext cx="796680" cy="487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7516800" y="2797200"/>
              <a:ext cx="796680" cy="485640"/>
              <a:chOff x="7516800" y="2797200"/>
              <a:chExt cx="796680" cy="485640"/>
            </a:xfrm>
          </p:grpSpPr>
          <p:sp>
            <p:nvSpPr>
              <p:cNvPr id="301" name=""/>
              <p:cNvSpPr/>
              <p:nvPr/>
            </p:nvSpPr>
            <p:spPr>
              <a:xfrm>
                <a:off x="7538400" y="2802600"/>
                <a:ext cx="753840" cy="48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7516800" y="2797200"/>
                <a:ext cx="796680" cy="485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0" y="5160960"/>
              <a:ext cx="738000" cy="627120"/>
              <a:chOff x="0" y="5160960"/>
              <a:chExt cx="738000" cy="627120"/>
            </a:xfrm>
          </p:grpSpPr>
          <p:sp>
            <p:nvSpPr>
              <p:cNvPr id="304" name=""/>
              <p:cNvSpPr/>
              <p:nvPr/>
            </p:nvSpPr>
            <p:spPr>
              <a:xfrm>
                <a:off x="20880" y="5168160"/>
                <a:ext cx="695880" cy="61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8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5160960"/>
                <a:ext cx="738000" cy="627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6" name=""/>
            <p:cNvSpPr/>
            <p:nvPr/>
          </p:nvSpPr>
          <p:spPr>
            <a:xfrm>
              <a:off x="798480" y="5187960"/>
              <a:ext cx="354348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Recognising the need to undertake lifelong learning, and possessing/acquiring the capacity to do so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38360" y="5160960"/>
              <a:ext cx="3585960" cy="6271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4317840" y="5160960"/>
              <a:ext cx="796680" cy="627120"/>
              <a:chOff x="4317840" y="5160960"/>
              <a:chExt cx="796680" cy="627120"/>
            </a:xfrm>
          </p:grpSpPr>
          <p:sp>
            <p:nvSpPr>
              <p:cNvPr id="309" name=""/>
              <p:cNvSpPr/>
              <p:nvPr/>
            </p:nvSpPr>
            <p:spPr>
              <a:xfrm>
                <a:off x="4338720" y="5168160"/>
                <a:ext cx="754560" cy="61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1400"/>
                </a:br>
                <a:br>
                  <a:rPr sz="1400"/>
                </a:b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317840" y="5160960"/>
                <a:ext cx="796680" cy="627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1" name=""/>
            <p:cNvGrpSpPr/>
            <p:nvPr/>
          </p:nvGrpSpPr>
          <p:grpSpPr>
            <a:xfrm>
              <a:off x="5121360" y="5160960"/>
              <a:ext cx="798120" cy="627120"/>
              <a:chOff x="5121360" y="5160960"/>
              <a:chExt cx="798120" cy="627120"/>
            </a:xfrm>
          </p:grpSpPr>
          <p:sp>
            <p:nvSpPr>
              <p:cNvPr id="312" name=""/>
              <p:cNvSpPr/>
              <p:nvPr/>
            </p:nvSpPr>
            <p:spPr>
              <a:xfrm>
                <a:off x="5142240" y="5168160"/>
                <a:ext cx="756000" cy="61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121360" y="5160960"/>
                <a:ext cx="798120" cy="627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4" name=""/>
            <p:cNvGrpSpPr/>
            <p:nvPr/>
          </p:nvGrpSpPr>
          <p:grpSpPr>
            <a:xfrm>
              <a:off x="6716880" y="5160960"/>
              <a:ext cx="793080" cy="627120"/>
              <a:chOff x="6716880" y="5160960"/>
              <a:chExt cx="793080" cy="627120"/>
            </a:xfrm>
          </p:grpSpPr>
          <p:sp>
            <p:nvSpPr>
              <p:cNvPr id="315" name=""/>
              <p:cNvSpPr/>
              <p:nvPr/>
            </p:nvSpPr>
            <p:spPr>
              <a:xfrm>
                <a:off x="6737760" y="5168160"/>
                <a:ext cx="750960" cy="61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716880" y="5160960"/>
                <a:ext cx="793080" cy="627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7510320" y="5160960"/>
              <a:ext cx="796680" cy="627120"/>
              <a:chOff x="7510320" y="5160960"/>
              <a:chExt cx="796680" cy="627120"/>
            </a:xfrm>
          </p:grpSpPr>
          <p:sp>
            <p:nvSpPr>
              <p:cNvPr id="318" name=""/>
              <p:cNvSpPr/>
              <p:nvPr/>
            </p:nvSpPr>
            <p:spPr>
              <a:xfrm>
                <a:off x="7531920" y="5168160"/>
                <a:ext cx="753840" cy="61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7510320" y="5160960"/>
                <a:ext cx="796680" cy="627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8307360" y="5167440"/>
              <a:ext cx="717120" cy="620640"/>
              <a:chOff x="8307360" y="5167440"/>
              <a:chExt cx="717120" cy="620640"/>
            </a:xfrm>
          </p:grpSpPr>
          <p:sp>
            <p:nvSpPr>
              <p:cNvPr id="321" name=""/>
              <p:cNvSpPr/>
              <p:nvPr/>
            </p:nvSpPr>
            <p:spPr>
              <a:xfrm>
                <a:off x="8323200" y="5174280"/>
                <a:ext cx="685080" cy="61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8307360" y="5167440"/>
                <a:ext cx="717120" cy="62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3" name=""/>
            <p:cNvGrpSpPr/>
            <p:nvPr/>
          </p:nvGrpSpPr>
          <p:grpSpPr>
            <a:xfrm>
              <a:off x="0" y="3282840"/>
              <a:ext cx="738000" cy="487440"/>
              <a:chOff x="0" y="3282840"/>
              <a:chExt cx="738000" cy="487440"/>
            </a:xfrm>
          </p:grpSpPr>
          <p:sp>
            <p:nvSpPr>
              <p:cNvPr id="324" name=""/>
              <p:cNvSpPr/>
              <p:nvPr/>
            </p:nvSpPr>
            <p:spPr>
              <a:xfrm>
                <a:off x="20880" y="3288240"/>
                <a:ext cx="695880" cy="48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5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0" y="3282840"/>
                <a:ext cx="738000" cy="487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6" name=""/>
            <p:cNvSpPr/>
            <p:nvPr/>
          </p:nvSpPr>
          <p:spPr>
            <a:xfrm>
              <a:off x="760320" y="3314880"/>
              <a:ext cx="35434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Ability to utilise a systems approach to design and evaluate operational performance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38360" y="3282840"/>
              <a:ext cx="3585960" cy="4874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4317840" y="3282840"/>
              <a:ext cx="796680" cy="487440"/>
              <a:chOff x="4317840" y="3282840"/>
              <a:chExt cx="796680" cy="487440"/>
            </a:xfrm>
          </p:grpSpPr>
          <p:sp>
            <p:nvSpPr>
              <p:cNvPr id="329" name=""/>
              <p:cNvSpPr/>
              <p:nvPr/>
            </p:nvSpPr>
            <p:spPr>
              <a:xfrm>
                <a:off x="4338720" y="3288240"/>
                <a:ext cx="754560" cy="48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1400"/>
                </a:br>
                <a:br>
                  <a:rPr sz="1400"/>
                </a:b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317840" y="3282840"/>
                <a:ext cx="796680" cy="487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5121360" y="3282840"/>
              <a:ext cx="798120" cy="487440"/>
              <a:chOff x="5121360" y="3282840"/>
              <a:chExt cx="798120" cy="487440"/>
            </a:xfrm>
          </p:grpSpPr>
          <p:sp>
            <p:nvSpPr>
              <p:cNvPr id="332" name=""/>
              <p:cNvSpPr/>
              <p:nvPr/>
            </p:nvSpPr>
            <p:spPr>
              <a:xfrm>
                <a:off x="5142240" y="3288240"/>
                <a:ext cx="756000" cy="48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121360" y="3282840"/>
                <a:ext cx="798120" cy="487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5919840" y="3282840"/>
              <a:ext cx="796680" cy="487440"/>
              <a:chOff x="5919840" y="3282840"/>
              <a:chExt cx="796680" cy="487440"/>
            </a:xfrm>
          </p:grpSpPr>
          <p:sp>
            <p:nvSpPr>
              <p:cNvPr id="335" name=""/>
              <p:cNvSpPr/>
              <p:nvPr/>
            </p:nvSpPr>
            <p:spPr>
              <a:xfrm>
                <a:off x="5940720" y="3288240"/>
                <a:ext cx="754560" cy="48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919840" y="3282840"/>
                <a:ext cx="796680" cy="487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7" name=""/>
            <p:cNvGrpSpPr/>
            <p:nvPr/>
          </p:nvGrpSpPr>
          <p:grpSpPr>
            <a:xfrm>
              <a:off x="6716880" y="3282840"/>
              <a:ext cx="793080" cy="487440"/>
              <a:chOff x="6716880" y="3282840"/>
              <a:chExt cx="793080" cy="487440"/>
            </a:xfrm>
          </p:grpSpPr>
          <p:sp>
            <p:nvSpPr>
              <p:cNvPr id="338" name=""/>
              <p:cNvSpPr/>
              <p:nvPr/>
            </p:nvSpPr>
            <p:spPr>
              <a:xfrm>
                <a:off x="6737760" y="3288240"/>
                <a:ext cx="750960" cy="48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716880" y="3282840"/>
                <a:ext cx="793080" cy="487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0" name=""/>
            <p:cNvGrpSpPr/>
            <p:nvPr/>
          </p:nvGrpSpPr>
          <p:grpSpPr>
            <a:xfrm>
              <a:off x="7510320" y="3282840"/>
              <a:ext cx="796680" cy="487440"/>
              <a:chOff x="7510320" y="3282840"/>
              <a:chExt cx="796680" cy="487440"/>
            </a:xfrm>
          </p:grpSpPr>
          <p:sp>
            <p:nvSpPr>
              <p:cNvPr id="341" name=""/>
              <p:cNvSpPr/>
              <p:nvPr/>
            </p:nvSpPr>
            <p:spPr>
              <a:xfrm>
                <a:off x="7531920" y="3288240"/>
                <a:ext cx="753840" cy="48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510320" y="3282840"/>
                <a:ext cx="796680" cy="487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3" name=""/>
            <p:cNvGrpSpPr/>
            <p:nvPr/>
          </p:nvGrpSpPr>
          <p:grpSpPr>
            <a:xfrm>
              <a:off x="8307360" y="3289320"/>
              <a:ext cx="717120" cy="480960"/>
              <a:chOff x="8307360" y="3289320"/>
              <a:chExt cx="717120" cy="480960"/>
            </a:xfrm>
          </p:grpSpPr>
          <p:sp>
            <p:nvSpPr>
              <p:cNvPr id="344" name=""/>
              <p:cNvSpPr/>
              <p:nvPr/>
            </p:nvSpPr>
            <p:spPr>
              <a:xfrm>
                <a:off x="8323200" y="3294720"/>
                <a:ext cx="685080" cy="47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8307360" y="3289320"/>
                <a:ext cx="717120" cy="4809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6" name=""/>
            <p:cNvSpPr/>
            <p:nvPr/>
          </p:nvSpPr>
          <p:spPr>
            <a:xfrm>
              <a:off x="779400" y="3770280"/>
              <a:ext cx="354348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Ability to function effectively as an individual and in a group with the capacity to be a leader or manager as well as an effective team member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38360" y="4386240"/>
              <a:ext cx="3585960" cy="7668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38360" y="3763800"/>
              <a:ext cx="3585960" cy="6224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9" name=""/>
            <p:cNvGrpSpPr/>
            <p:nvPr/>
          </p:nvGrpSpPr>
          <p:grpSpPr>
            <a:xfrm>
              <a:off x="3240" y="3762360"/>
              <a:ext cx="739440" cy="623880"/>
              <a:chOff x="3240" y="3762360"/>
              <a:chExt cx="739440" cy="623880"/>
            </a:xfrm>
          </p:grpSpPr>
          <p:sp>
            <p:nvSpPr>
              <p:cNvPr id="350" name=""/>
              <p:cNvSpPr/>
              <p:nvPr/>
            </p:nvSpPr>
            <p:spPr>
              <a:xfrm>
                <a:off x="24120" y="3769200"/>
                <a:ext cx="697320" cy="61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6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240" y="3762360"/>
                <a:ext cx="739440" cy="623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2" name=""/>
            <p:cNvGrpSpPr/>
            <p:nvPr/>
          </p:nvGrpSpPr>
          <p:grpSpPr>
            <a:xfrm>
              <a:off x="4321080" y="3762360"/>
              <a:ext cx="796680" cy="623880"/>
              <a:chOff x="4321080" y="3762360"/>
              <a:chExt cx="796680" cy="623880"/>
            </a:xfrm>
          </p:grpSpPr>
          <p:sp>
            <p:nvSpPr>
              <p:cNvPr id="353" name=""/>
              <p:cNvSpPr/>
              <p:nvPr/>
            </p:nvSpPr>
            <p:spPr>
              <a:xfrm>
                <a:off x="4341960" y="3769200"/>
                <a:ext cx="754560" cy="61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1400"/>
                </a:br>
                <a:br>
                  <a:rPr sz="1400"/>
                </a:b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321080" y="3762360"/>
                <a:ext cx="796680" cy="623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5" name=""/>
            <p:cNvSpPr/>
            <p:nvPr/>
          </p:nvSpPr>
          <p:spPr>
            <a:xfrm>
              <a:off x="793800" y="4414680"/>
              <a:ext cx="354312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Having the understanding of the social, cultural, global and environmental responsibilities and ethics of a professional engineer and the need for sustainable development.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6" name=""/>
            <p:cNvGrpSpPr/>
            <p:nvPr/>
          </p:nvGrpSpPr>
          <p:grpSpPr>
            <a:xfrm>
              <a:off x="3240" y="4386240"/>
              <a:ext cx="739440" cy="766800"/>
              <a:chOff x="3240" y="4386240"/>
              <a:chExt cx="739440" cy="766800"/>
            </a:xfrm>
          </p:grpSpPr>
          <p:sp>
            <p:nvSpPr>
              <p:cNvPr id="357" name=""/>
              <p:cNvSpPr/>
              <p:nvPr/>
            </p:nvSpPr>
            <p:spPr>
              <a:xfrm>
                <a:off x="24120" y="4394880"/>
                <a:ext cx="697320" cy="75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7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240" y="4386240"/>
                <a:ext cx="739440" cy="766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9" name=""/>
            <p:cNvGrpSpPr/>
            <p:nvPr/>
          </p:nvGrpSpPr>
          <p:grpSpPr>
            <a:xfrm>
              <a:off x="8307360" y="3762360"/>
              <a:ext cx="717120" cy="623880"/>
              <a:chOff x="8307360" y="3762360"/>
              <a:chExt cx="717120" cy="623880"/>
            </a:xfrm>
          </p:grpSpPr>
          <p:sp>
            <p:nvSpPr>
              <p:cNvPr id="360" name=""/>
              <p:cNvSpPr/>
              <p:nvPr/>
            </p:nvSpPr>
            <p:spPr>
              <a:xfrm>
                <a:off x="8323200" y="3769200"/>
                <a:ext cx="685080" cy="61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8307360" y="3762360"/>
                <a:ext cx="717120" cy="623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5925960" y="3762360"/>
              <a:ext cx="796680" cy="623880"/>
              <a:chOff x="5925960" y="3762360"/>
              <a:chExt cx="796680" cy="623880"/>
            </a:xfrm>
          </p:grpSpPr>
          <p:sp>
            <p:nvSpPr>
              <p:cNvPr id="363" name=""/>
              <p:cNvSpPr/>
              <p:nvPr/>
            </p:nvSpPr>
            <p:spPr>
              <a:xfrm>
                <a:off x="5946840" y="3769200"/>
                <a:ext cx="754560" cy="61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925960" y="3762360"/>
                <a:ext cx="796680" cy="623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6711840" y="3762360"/>
              <a:ext cx="793440" cy="623880"/>
              <a:chOff x="6711840" y="3762360"/>
              <a:chExt cx="793440" cy="623880"/>
            </a:xfrm>
          </p:grpSpPr>
          <p:sp>
            <p:nvSpPr>
              <p:cNvPr id="366" name=""/>
              <p:cNvSpPr/>
              <p:nvPr/>
            </p:nvSpPr>
            <p:spPr>
              <a:xfrm>
                <a:off x="6732720" y="3769200"/>
                <a:ext cx="751320" cy="61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711840" y="3762360"/>
                <a:ext cx="793440" cy="623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4321080" y="4386240"/>
              <a:ext cx="796680" cy="766800"/>
              <a:chOff x="4321080" y="4386240"/>
              <a:chExt cx="796680" cy="766800"/>
            </a:xfrm>
          </p:grpSpPr>
          <p:sp>
            <p:nvSpPr>
              <p:cNvPr id="369" name=""/>
              <p:cNvSpPr/>
              <p:nvPr/>
            </p:nvSpPr>
            <p:spPr>
              <a:xfrm>
                <a:off x="4341960" y="4394880"/>
                <a:ext cx="754560" cy="75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1400"/>
                </a:br>
                <a:br>
                  <a:rPr sz="1400"/>
                </a:b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321080" y="4386240"/>
                <a:ext cx="796680" cy="766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8307360" y="4386240"/>
              <a:ext cx="717120" cy="766800"/>
              <a:chOff x="8307360" y="4386240"/>
              <a:chExt cx="717120" cy="766800"/>
            </a:xfrm>
          </p:grpSpPr>
          <p:sp>
            <p:nvSpPr>
              <p:cNvPr id="372" name=""/>
              <p:cNvSpPr/>
              <p:nvPr/>
            </p:nvSpPr>
            <p:spPr>
              <a:xfrm>
                <a:off x="8323200" y="4394880"/>
                <a:ext cx="685080" cy="75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8307360" y="4386240"/>
                <a:ext cx="717120" cy="766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4" name=""/>
            <p:cNvGrpSpPr/>
            <p:nvPr/>
          </p:nvGrpSpPr>
          <p:grpSpPr>
            <a:xfrm>
              <a:off x="5925960" y="4386240"/>
              <a:ext cx="796680" cy="766800"/>
              <a:chOff x="5925960" y="4386240"/>
              <a:chExt cx="796680" cy="766800"/>
            </a:xfrm>
          </p:grpSpPr>
          <p:sp>
            <p:nvSpPr>
              <p:cNvPr id="375" name=""/>
              <p:cNvSpPr/>
              <p:nvPr/>
            </p:nvSpPr>
            <p:spPr>
              <a:xfrm>
                <a:off x="5946840" y="4394880"/>
                <a:ext cx="754560" cy="75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925960" y="4386240"/>
                <a:ext cx="796680" cy="766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7" name=""/>
            <p:cNvGrpSpPr/>
            <p:nvPr/>
          </p:nvGrpSpPr>
          <p:grpSpPr>
            <a:xfrm>
              <a:off x="6711840" y="4386240"/>
              <a:ext cx="793440" cy="766800"/>
              <a:chOff x="6711840" y="4386240"/>
              <a:chExt cx="793440" cy="766800"/>
            </a:xfrm>
          </p:grpSpPr>
          <p:sp>
            <p:nvSpPr>
              <p:cNvPr id="378" name=""/>
              <p:cNvSpPr/>
              <p:nvPr/>
            </p:nvSpPr>
            <p:spPr>
              <a:xfrm>
                <a:off x="6732720" y="4394880"/>
                <a:ext cx="751320" cy="75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711840" y="4386240"/>
                <a:ext cx="793440" cy="766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0" name=""/>
            <p:cNvGrpSpPr/>
            <p:nvPr/>
          </p:nvGrpSpPr>
          <p:grpSpPr>
            <a:xfrm>
              <a:off x="5124600" y="4386240"/>
              <a:ext cx="798120" cy="766800"/>
              <a:chOff x="5124600" y="4386240"/>
              <a:chExt cx="798120" cy="766800"/>
            </a:xfrm>
          </p:grpSpPr>
          <p:sp>
            <p:nvSpPr>
              <p:cNvPr id="381" name=""/>
              <p:cNvSpPr/>
              <p:nvPr/>
            </p:nvSpPr>
            <p:spPr>
              <a:xfrm>
                <a:off x="5145480" y="4394880"/>
                <a:ext cx="756000" cy="75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124600" y="4386240"/>
                <a:ext cx="798120" cy="766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3" name=""/>
            <p:cNvGrpSpPr/>
            <p:nvPr/>
          </p:nvGrpSpPr>
          <p:grpSpPr>
            <a:xfrm>
              <a:off x="7502400" y="3762360"/>
              <a:ext cx="796680" cy="623880"/>
              <a:chOff x="7502400" y="3762360"/>
              <a:chExt cx="796680" cy="623880"/>
            </a:xfrm>
          </p:grpSpPr>
          <p:sp>
            <p:nvSpPr>
              <p:cNvPr id="384" name=""/>
              <p:cNvSpPr/>
              <p:nvPr/>
            </p:nvSpPr>
            <p:spPr>
              <a:xfrm>
                <a:off x="7524000" y="3769200"/>
                <a:ext cx="753840" cy="61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7502400" y="3762360"/>
                <a:ext cx="796680" cy="623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6" name=""/>
            <p:cNvGrpSpPr/>
            <p:nvPr/>
          </p:nvGrpSpPr>
          <p:grpSpPr>
            <a:xfrm>
              <a:off x="7516800" y="4386240"/>
              <a:ext cx="796680" cy="766800"/>
              <a:chOff x="7516800" y="4386240"/>
              <a:chExt cx="796680" cy="766800"/>
            </a:xfrm>
          </p:grpSpPr>
          <p:sp>
            <p:nvSpPr>
              <p:cNvPr id="387" name=""/>
              <p:cNvSpPr/>
              <p:nvPr/>
            </p:nvSpPr>
            <p:spPr>
              <a:xfrm>
                <a:off x="7538400" y="4394880"/>
                <a:ext cx="753840" cy="75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516800" y="4386240"/>
                <a:ext cx="796680" cy="766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5915160" y="5160960"/>
              <a:ext cx="796320" cy="627120"/>
              <a:chOff x="5915160" y="5160960"/>
              <a:chExt cx="796320" cy="627120"/>
            </a:xfrm>
          </p:grpSpPr>
          <p:sp>
            <p:nvSpPr>
              <p:cNvPr id="390" name=""/>
              <p:cNvSpPr/>
              <p:nvPr/>
            </p:nvSpPr>
            <p:spPr>
              <a:xfrm>
                <a:off x="5936040" y="5168160"/>
                <a:ext cx="754200" cy="61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5915160" y="5160960"/>
                <a:ext cx="796320" cy="627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2" name=""/>
            <p:cNvSpPr/>
            <p:nvPr/>
          </p:nvSpPr>
          <p:spPr>
            <a:xfrm>
              <a:off x="5945040" y="1941480"/>
              <a:ext cx="69372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√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287960" y="2400480"/>
              <a:ext cx="69372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√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116680" y="2414520"/>
              <a:ext cx="69372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√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298000" y="2913120"/>
              <a:ext cx="69372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√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711840" y="3414600"/>
              <a:ext cx="69372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√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02400" y="3965400"/>
              <a:ext cx="69372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√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106960" y="4651200"/>
              <a:ext cx="69372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√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716880" y="4657680"/>
              <a:ext cx="69372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√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702480" y="5313240"/>
              <a:ext cx="69372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√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258040" y="5300640"/>
              <a:ext cx="69552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√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5126040" y="858960"/>
              <a:ext cx="796680" cy="485640"/>
              <a:chOff x="5126040" y="858960"/>
              <a:chExt cx="796680" cy="485640"/>
            </a:xfrm>
          </p:grpSpPr>
          <p:sp>
            <p:nvSpPr>
              <p:cNvPr id="403" name=""/>
              <p:cNvSpPr/>
              <p:nvPr/>
            </p:nvSpPr>
            <p:spPr>
              <a:xfrm>
                <a:off x="5146920" y="864360"/>
                <a:ext cx="754560" cy="48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1400"/>
                </a:br>
                <a:br>
                  <a:rPr sz="1400"/>
                </a:b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126040" y="858960"/>
                <a:ext cx="796680" cy="485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5935680" y="858960"/>
              <a:ext cx="779040" cy="485640"/>
              <a:chOff x="5935680" y="858960"/>
              <a:chExt cx="779040" cy="485640"/>
            </a:xfrm>
          </p:grpSpPr>
          <p:sp>
            <p:nvSpPr>
              <p:cNvPr id="406" name=""/>
              <p:cNvSpPr/>
              <p:nvPr/>
            </p:nvSpPr>
            <p:spPr>
              <a:xfrm>
                <a:off x="5956200" y="864360"/>
                <a:ext cx="737640" cy="48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1400"/>
                </a:br>
                <a:br>
                  <a:rPr sz="1400"/>
                </a:b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935680" y="858960"/>
                <a:ext cx="779040" cy="485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8" name=""/>
            <p:cNvSpPr/>
            <p:nvPr/>
          </p:nvSpPr>
          <p:spPr>
            <a:xfrm>
              <a:off x="4570560" y="950760"/>
              <a:ext cx="61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361120" y="950760"/>
              <a:ext cx="61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165720" y="930240"/>
              <a:ext cx="61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985080" y="936720"/>
              <a:ext cx="61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780320" y="930240"/>
              <a:ext cx="61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526600" y="920880"/>
              <a:ext cx="61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14" name=""/>
            <p:cNvGrpSpPr/>
            <p:nvPr/>
          </p:nvGrpSpPr>
          <p:grpSpPr>
            <a:xfrm>
              <a:off x="6705720" y="860400"/>
              <a:ext cx="793440" cy="487440"/>
              <a:chOff x="6705720" y="860400"/>
              <a:chExt cx="793440" cy="487440"/>
            </a:xfrm>
          </p:grpSpPr>
          <p:sp>
            <p:nvSpPr>
              <p:cNvPr id="415" name=""/>
              <p:cNvSpPr/>
              <p:nvPr/>
            </p:nvSpPr>
            <p:spPr>
              <a:xfrm>
                <a:off x="6726600" y="865800"/>
                <a:ext cx="751320" cy="48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705720" y="860400"/>
                <a:ext cx="793440" cy="487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7500960" y="860400"/>
              <a:ext cx="796680" cy="487440"/>
              <a:chOff x="7500960" y="860400"/>
              <a:chExt cx="796680" cy="487440"/>
            </a:xfrm>
          </p:grpSpPr>
          <p:sp>
            <p:nvSpPr>
              <p:cNvPr id="418" name=""/>
              <p:cNvSpPr/>
              <p:nvPr/>
            </p:nvSpPr>
            <p:spPr>
              <a:xfrm>
                <a:off x="7522560" y="865800"/>
                <a:ext cx="753840" cy="48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500960" y="860400"/>
                <a:ext cx="796680" cy="487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8298000" y="855720"/>
              <a:ext cx="717120" cy="480960"/>
              <a:chOff x="8298000" y="855720"/>
              <a:chExt cx="717120" cy="480960"/>
            </a:xfrm>
          </p:grpSpPr>
          <p:sp>
            <p:nvSpPr>
              <p:cNvPr id="421" name=""/>
              <p:cNvSpPr/>
              <p:nvPr/>
            </p:nvSpPr>
            <p:spPr>
              <a:xfrm>
                <a:off x="8313840" y="861120"/>
                <a:ext cx="685080" cy="47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8298000" y="855720"/>
                <a:ext cx="717120" cy="4809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23" name=""/>
          <p:cNvSpPr/>
          <p:nvPr/>
        </p:nvSpPr>
        <p:spPr>
          <a:xfrm>
            <a:off x="0" y="-100080"/>
            <a:ext cx="4572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 – PEO Matr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681120" cy="838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3cccc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efinition of Terms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33520" y="1219320"/>
            <a:ext cx="8610480" cy="38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URSE OUTCOMES (CO)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CO are statements of student actions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or what the student is able to do as the course progresses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that serve as evidence of the achievement of PO. These statements are more course specific and relate to the course cont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09480" y="57150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 are linked to P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681120" cy="838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3cccc">
                <a:alpha val="50000"/>
              </a:srgbClr>
            </a:outerShdw>
          </a:effectLst>
        </p:spPr>
      </p:pic>
      <p:sp>
        <p:nvSpPr>
          <p:cNvPr id="429" name=""/>
          <p:cNvSpPr/>
          <p:nvPr/>
        </p:nvSpPr>
        <p:spPr>
          <a:xfrm>
            <a:off x="5867280" y="6553080"/>
            <a:ext cx="3276720" cy="304920"/>
          </a:xfrm>
          <a:prstGeom prst="rect">
            <a:avLst/>
          </a:prstGeom>
          <a:solidFill>
            <a:srgbClr val="ffcc66"/>
          </a:solidFill>
          <a:ln cap="sq"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an Hamidon,  June 20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917280" y="304920"/>
            <a:ext cx="7021800" cy="581400"/>
          </a:xfrm>
          <a:prstGeom prst="rect">
            <a:avLst/>
          </a:prstGeom>
          <a:noFill/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rogramme Educational Objec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986120" y="1600200"/>
            <a:ext cx="4641480" cy="581400"/>
          </a:xfrm>
          <a:prstGeom prst="rect">
            <a:avLst/>
          </a:prstGeom>
          <a:noFill/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  <a:ea typeface="Times New Roman"/>
              </a:rPr>
              <a:t>Programme Outcomes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359160" y="5486400"/>
            <a:ext cx="2775960" cy="947160"/>
          </a:xfrm>
          <a:prstGeom prst="rect">
            <a:avLst/>
          </a:prstGeom>
          <a:noFill/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urse Outco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f Course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188040" y="4495680"/>
            <a:ext cx="2955960" cy="947160"/>
          </a:xfrm>
          <a:prstGeom prst="rect">
            <a:avLst/>
          </a:prstGeom>
          <a:noFill/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Course Outco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f Course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952880" y="2192400"/>
            <a:ext cx="271440" cy="3294000"/>
          </a:xfrm>
          <a:custGeom>
            <a:avLst/>
            <a:gdLst/>
            <a:ahLst/>
            <a:rect l="l" t="t" r="r" b="b"/>
            <a:pathLst>
              <a:path w="100" h="1920">
                <a:moveTo>
                  <a:pt x="0" y="1920"/>
                </a:moveTo>
                <a:cubicBezTo>
                  <a:pt x="1" y="1767"/>
                  <a:pt x="1" y="1169"/>
                  <a:pt x="4" y="989"/>
                </a:cubicBezTo>
                <a:cubicBezTo>
                  <a:pt x="7" y="809"/>
                  <a:pt x="11" y="907"/>
                  <a:pt x="18" y="841"/>
                </a:cubicBezTo>
                <a:cubicBezTo>
                  <a:pt x="25" y="775"/>
                  <a:pt x="35" y="678"/>
                  <a:pt x="46" y="594"/>
                </a:cubicBezTo>
                <a:cubicBezTo>
                  <a:pt x="57" y="510"/>
                  <a:pt x="73" y="437"/>
                  <a:pt x="82" y="338"/>
                </a:cubicBezTo>
                <a:cubicBezTo>
                  <a:pt x="91" y="239"/>
                  <a:pt x="96" y="70"/>
                  <a:pt x="100" y="0"/>
                </a:cubicBezTo>
              </a:path>
            </a:pathLst>
          </a:custGeom>
          <a:noFill/>
          <a:ln w="284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767560" y="2171880"/>
            <a:ext cx="1800000" cy="2333520"/>
          </a:xfrm>
          <a:custGeom>
            <a:avLst/>
            <a:gdLst/>
            <a:ahLst/>
            <a:rect l="l" t="t" r="r" b="b"/>
            <a:pathLst>
              <a:path w="1134" h="1470">
                <a:moveTo>
                  <a:pt x="1119" y="1470"/>
                </a:moveTo>
                <a:cubicBezTo>
                  <a:pt x="1122" y="1224"/>
                  <a:pt x="1134" y="990"/>
                  <a:pt x="1119" y="858"/>
                </a:cubicBezTo>
                <a:cubicBezTo>
                  <a:pt x="1104" y="726"/>
                  <a:pt x="1076" y="727"/>
                  <a:pt x="1029" y="678"/>
                </a:cubicBezTo>
                <a:cubicBezTo>
                  <a:pt x="982" y="629"/>
                  <a:pt x="919" y="591"/>
                  <a:pt x="837" y="564"/>
                </a:cubicBezTo>
                <a:cubicBezTo>
                  <a:pt x="755" y="537"/>
                  <a:pt x="636" y="532"/>
                  <a:pt x="537" y="516"/>
                </a:cubicBezTo>
                <a:cubicBezTo>
                  <a:pt x="438" y="500"/>
                  <a:pt x="326" y="499"/>
                  <a:pt x="243" y="468"/>
                </a:cubicBezTo>
                <a:cubicBezTo>
                  <a:pt x="160" y="437"/>
                  <a:pt x="78" y="408"/>
                  <a:pt x="39" y="330"/>
                </a:cubicBezTo>
                <a:cubicBezTo>
                  <a:pt x="0" y="252"/>
                  <a:pt x="15" y="69"/>
                  <a:pt x="9" y="0"/>
                </a:cubicBezTo>
              </a:path>
            </a:pathLst>
          </a:custGeom>
          <a:noFill/>
          <a:ln w="284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4267080" y="914040"/>
            <a:ext cx="0" cy="64764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911600" y="3962520"/>
            <a:ext cx="2775960" cy="947160"/>
          </a:xfrm>
          <a:prstGeom prst="rect">
            <a:avLst/>
          </a:prstGeom>
          <a:noFill/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urse Outco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f Course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36680" y="5398920"/>
            <a:ext cx="2775960" cy="947160"/>
          </a:xfrm>
          <a:prstGeom prst="rect">
            <a:avLst/>
          </a:prstGeom>
          <a:noFill/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Course Outco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f Course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352680" y="2235240"/>
            <a:ext cx="812880" cy="1727280"/>
          </a:xfrm>
          <a:custGeom>
            <a:avLst/>
            <a:gdLst/>
            <a:ahLst/>
            <a:rect l="l" t="t" r="r" b="b"/>
            <a:pathLst>
              <a:path w="512" h="1371">
                <a:moveTo>
                  <a:pt x="0" y="1371"/>
                </a:moveTo>
                <a:cubicBezTo>
                  <a:pt x="4" y="1295"/>
                  <a:pt x="0" y="1036"/>
                  <a:pt x="27" y="914"/>
                </a:cubicBezTo>
                <a:cubicBezTo>
                  <a:pt x="54" y="792"/>
                  <a:pt x="118" y="715"/>
                  <a:pt x="165" y="640"/>
                </a:cubicBezTo>
                <a:cubicBezTo>
                  <a:pt x="212" y="565"/>
                  <a:pt x="263" y="538"/>
                  <a:pt x="311" y="466"/>
                </a:cubicBezTo>
                <a:cubicBezTo>
                  <a:pt x="359" y="394"/>
                  <a:pt x="420" y="283"/>
                  <a:pt x="453" y="205"/>
                </a:cubicBezTo>
                <a:cubicBezTo>
                  <a:pt x="486" y="127"/>
                  <a:pt x="500" y="43"/>
                  <a:pt x="512" y="0"/>
                </a:cubicBezTo>
              </a:path>
            </a:pathLst>
          </a:custGeom>
          <a:noFill/>
          <a:ln w="284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500120" y="2220840"/>
            <a:ext cx="1881360" cy="3143160"/>
          </a:xfrm>
          <a:custGeom>
            <a:avLst/>
            <a:gdLst/>
            <a:ahLst/>
            <a:rect l="l" t="t" r="r" b="b"/>
            <a:pathLst>
              <a:path w="1185" h="1980">
                <a:moveTo>
                  <a:pt x="29" y="1980"/>
                </a:moveTo>
                <a:cubicBezTo>
                  <a:pt x="30" y="1883"/>
                  <a:pt x="0" y="1564"/>
                  <a:pt x="33" y="1399"/>
                </a:cubicBezTo>
                <a:cubicBezTo>
                  <a:pt x="66" y="1234"/>
                  <a:pt x="140" y="1091"/>
                  <a:pt x="225" y="987"/>
                </a:cubicBezTo>
                <a:cubicBezTo>
                  <a:pt x="310" y="883"/>
                  <a:pt x="434" y="865"/>
                  <a:pt x="545" y="777"/>
                </a:cubicBezTo>
                <a:cubicBezTo>
                  <a:pt x="656" y="689"/>
                  <a:pt x="786" y="586"/>
                  <a:pt x="893" y="457"/>
                </a:cubicBezTo>
                <a:cubicBezTo>
                  <a:pt x="1000" y="328"/>
                  <a:pt x="1124" y="95"/>
                  <a:pt x="1185" y="0"/>
                </a:cubicBezTo>
              </a:path>
            </a:pathLst>
          </a:custGeom>
          <a:noFill/>
          <a:ln w="284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681120" cy="838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3cccc">
                <a:alpha val="50000"/>
              </a:srgbClr>
            </a:outerShdw>
          </a:effectLst>
        </p:spPr>
      </p:pic>
      <p:sp>
        <p:nvSpPr>
          <p:cNvPr id="442" name=""/>
          <p:cNvSpPr/>
          <p:nvPr/>
        </p:nvSpPr>
        <p:spPr>
          <a:xfrm>
            <a:off x="5867280" y="6553080"/>
            <a:ext cx="3276720" cy="304920"/>
          </a:xfrm>
          <a:prstGeom prst="rect">
            <a:avLst/>
          </a:prstGeom>
          <a:solidFill>
            <a:srgbClr val="ffcc66"/>
          </a:solidFill>
          <a:ln cap="sq"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an Hamidon,  June 20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1375560" y="1371600"/>
            <a:ext cx="4674960" cy="581400"/>
          </a:xfrm>
          <a:prstGeom prst="rect">
            <a:avLst/>
          </a:prstGeom>
          <a:noFill/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Curricular Revamp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1120" cy="838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3cccc">
                <a:alpha val="50000"/>
              </a:srgbClr>
            </a:outerShdw>
          </a:effectLst>
        </p:spPr>
      </p:pic>
      <p:sp>
        <p:nvSpPr>
          <p:cNvPr id="445" name=""/>
          <p:cNvSpPr/>
          <p:nvPr/>
        </p:nvSpPr>
        <p:spPr>
          <a:xfrm>
            <a:off x="1757160" y="304920"/>
            <a:ext cx="1896840" cy="581400"/>
          </a:xfrm>
          <a:prstGeom prst="rect">
            <a:avLst/>
          </a:prstGeom>
          <a:noFill/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lan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298880" y="2286000"/>
            <a:ext cx="4539240" cy="581400"/>
          </a:xfrm>
          <a:prstGeom prst="rect">
            <a:avLst/>
          </a:prstGeom>
          <a:noFill/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Starting from scratch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88320" y="3809880"/>
            <a:ext cx="5373000" cy="581400"/>
          </a:xfrm>
          <a:prstGeom prst="rect">
            <a:avLst/>
          </a:prstGeom>
          <a:noFill/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Modify existing curricula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282480" y="3048120"/>
            <a:ext cx="497880" cy="520560"/>
          </a:xfrm>
          <a:prstGeom prst="rect">
            <a:avLst/>
          </a:prstGeom>
          <a:noFill/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57200" y="4800600"/>
            <a:ext cx="8465040" cy="581400"/>
          </a:xfrm>
          <a:prstGeom prst="rect">
            <a:avLst/>
          </a:prstGeom>
          <a:noFill/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Delivery Methods/instructional Techniq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82680" y="5715000"/>
            <a:ext cx="7156080" cy="581400"/>
          </a:xfrm>
          <a:prstGeom prst="rect">
            <a:avLst/>
          </a:prstGeom>
          <a:noFill/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Asssessment &amp; Evaluation Meth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867280" y="6553080"/>
            <a:ext cx="3276720" cy="304920"/>
          </a:xfrm>
          <a:prstGeom prst="rect">
            <a:avLst/>
          </a:prstGeom>
          <a:solidFill>
            <a:srgbClr val="ffcc66"/>
          </a:solidFill>
          <a:ln cap="sq"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an Hamidon,  June 20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eps towards implementing OBE in curriculum desig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838080" y="2971440"/>
            <a:ext cx="647712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mulate PE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mulate P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dentify Programme Co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105264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et of courses in the programme curriculum designated to address the PO. Preferably, courses that all students will take. Elective courses may or may not be chose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681120" cy="838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3cccc">
                <a:alpha val="50000"/>
              </a:srgbClr>
            </a:outerShdw>
          </a:effectLst>
        </p:spPr>
      </p:pic>
      <p:sp>
        <p:nvSpPr>
          <p:cNvPr id="455" name=""/>
          <p:cNvSpPr/>
          <p:nvPr/>
        </p:nvSpPr>
        <p:spPr>
          <a:xfrm>
            <a:off x="5867280" y="6553080"/>
            <a:ext cx="3276720" cy="304920"/>
          </a:xfrm>
          <a:prstGeom prst="rect">
            <a:avLst/>
          </a:prstGeom>
          <a:solidFill>
            <a:srgbClr val="ffcc66"/>
          </a:solidFill>
          <a:ln cap="sq"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an Hamidon,  June 20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eps towards implementing OBE in curriculum desig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228240" y="2742840"/>
            <a:ext cx="74674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SzPct val="80000"/>
              <a:buFont typeface="Arial"/>
              <a:buAutoNum type="arabicPeriod" startAt="4"/>
              <a:tabLst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fine for each core course a set of one or more CO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SzPct val="80000"/>
              <a:buFont typeface="Arial"/>
              <a:buAutoNum type="arabicPeriod" startAt="4"/>
              <a:tabLst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epare a matrix of CO against PO (CO-PO Matrix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55520" indent="-5364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ate the level of emphasis on PO by each 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627200" indent="-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tries 1, 2, and 3 to b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erted in the matrix to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icate the level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phasis whether slightly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oderately, o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ubstantively address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019920" y="4191120"/>
            <a:ext cx="2895480" cy="2666880"/>
          </a:xfrm>
          <a:prstGeom prst="wedgeRoundRectCallout">
            <a:avLst>
              <a:gd name="adj1" fmla="val -93750"/>
              <a:gd name="adj2" fmla="val -2319"/>
              <a:gd name="adj3" fmla="val 16667"/>
            </a:avLst>
          </a:prstGeom>
          <a:solidFill>
            <a:srgbClr val="00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 be based on a review of course materials conducted by a committe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681120" cy="838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3cccc">
                <a:alpha val="50000"/>
              </a:srgbClr>
            </a:outerShdw>
          </a:effectLst>
        </p:spPr>
      </p:pic>
      <p:sp>
        <p:nvSpPr>
          <p:cNvPr id="460" name=""/>
          <p:cNvSpPr/>
          <p:nvPr/>
        </p:nvSpPr>
        <p:spPr>
          <a:xfrm>
            <a:off x="5867280" y="6553080"/>
            <a:ext cx="3276720" cy="304920"/>
          </a:xfrm>
          <a:prstGeom prst="rect">
            <a:avLst/>
          </a:prstGeom>
          <a:solidFill>
            <a:srgbClr val="ffcc66"/>
          </a:solidFill>
          <a:ln cap="sq"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an Hamidon,  June 20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0" y="1447920"/>
            <a:ext cx="9144000" cy="541008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xample of a CO-PO Matrix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543800" y="4405320"/>
            <a:ext cx="1351080" cy="18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Tutorial classes &amp; Laboratory Repor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715000" y="4386240"/>
            <a:ext cx="1676520" cy="18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Lecture and group activiti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373720" y="3833640"/>
            <a:ext cx="252360" cy="18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121360" y="3833640"/>
            <a:ext cx="252360" cy="18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800600" y="4410000"/>
            <a:ext cx="216000" cy="18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689360" y="3833640"/>
            <a:ext cx="216000" cy="18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473720" y="3833640"/>
            <a:ext cx="215640" cy="18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4257720" y="3833640"/>
            <a:ext cx="216000" cy="18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041720" y="3833640"/>
            <a:ext cx="216000" cy="18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809880" y="4410000"/>
            <a:ext cx="216000" cy="18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581280" y="4405320"/>
            <a:ext cx="216000" cy="18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394080" y="3833640"/>
            <a:ext cx="216000" cy="18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048120" y="4414680"/>
            <a:ext cx="306360" cy="18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57200" y="4405320"/>
            <a:ext cx="2666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Ability to solve problems through computation on dynamic/vibration characteristic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of string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28600" y="4429080"/>
            <a:ext cx="249120" cy="18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7543800" y="3138480"/>
            <a:ext cx="135108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Tutorial classes &amp; Quizz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15000" y="3119400"/>
            <a:ext cx="175248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Lecture and group activiti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5416560" y="3097080"/>
            <a:ext cx="25236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121360" y="3083040"/>
            <a:ext cx="25236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905360" y="3083040"/>
            <a:ext cx="2160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761000" y="3083040"/>
            <a:ext cx="21564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473720" y="3083040"/>
            <a:ext cx="21564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257720" y="3083040"/>
            <a:ext cx="2160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041720" y="3083040"/>
            <a:ext cx="2160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825720" y="3083040"/>
            <a:ext cx="2160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610080" y="3083040"/>
            <a:ext cx="21564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394080" y="3083040"/>
            <a:ext cx="2160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087720" y="3083040"/>
            <a:ext cx="30636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2819520"/>
            <a:ext cx="259092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Ability to solve engineering problems related to building acoustic and environmental noise poll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14200" y="3052800"/>
            <a:ext cx="24948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7499520" y="1752480"/>
            <a:ext cx="1415880" cy="13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Assessment Metho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91320" y="1752480"/>
            <a:ext cx="1371600" cy="13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Delivery Metho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416560" y="1752480"/>
            <a:ext cx="252360" cy="13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O1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5192640" y="1752480"/>
            <a:ext cx="252360" cy="13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O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991040" y="1752480"/>
            <a:ext cx="216000" cy="13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O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746600" y="1752480"/>
            <a:ext cx="216000" cy="13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O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487760" y="1752480"/>
            <a:ext cx="216000" cy="13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O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272120" y="1752480"/>
            <a:ext cx="215640" cy="13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O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027320" y="1752480"/>
            <a:ext cx="216000" cy="13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O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782880" y="1752480"/>
            <a:ext cx="216000" cy="13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O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3581280" y="1752480"/>
            <a:ext cx="216000" cy="13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O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322800" y="1752480"/>
            <a:ext cx="215640" cy="13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O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087720" y="1752480"/>
            <a:ext cx="306360" cy="13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77720" y="1752480"/>
            <a:ext cx="2610000" cy="13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ourse Outcomes (CO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28600" y="1752480"/>
            <a:ext cx="249120" cy="13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28600" y="3083040"/>
            <a:ext cx="8621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28600" y="4343400"/>
            <a:ext cx="8621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28600" y="1752480"/>
            <a:ext cx="8621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228600" y="1752480"/>
            <a:ext cx="0" cy="43434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28600" y="6095880"/>
            <a:ext cx="8621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8839080" y="1752480"/>
            <a:ext cx="0" cy="43434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57200" y="1752480"/>
            <a:ext cx="0" cy="43434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048120" y="1757520"/>
            <a:ext cx="0" cy="43434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343320" y="1752480"/>
            <a:ext cx="0" cy="43434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3614760" y="1757520"/>
            <a:ext cx="0" cy="43434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843360" y="1752480"/>
            <a:ext cx="0" cy="43434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086360" y="1752480"/>
            <a:ext cx="0" cy="43434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343400" y="1757520"/>
            <a:ext cx="0" cy="43434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4572000" y="1752480"/>
            <a:ext cx="0" cy="43434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4800600" y="1752480"/>
            <a:ext cx="0" cy="43434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029200" y="1752480"/>
            <a:ext cx="0" cy="43434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257800" y="1752480"/>
            <a:ext cx="0" cy="43434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486400" y="1752480"/>
            <a:ext cx="0" cy="43434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715000" y="1752480"/>
            <a:ext cx="0" cy="43434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391520" y="1752480"/>
            <a:ext cx="0" cy="43434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76320" y="6172200"/>
            <a:ext cx="7238880" cy="609480"/>
            <a:chOff x="76320" y="6172200"/>
            <a:chExt cx="7238880" cy="609480"/>
          </a:xfrm>
        </p:grpSpPr>
        <p:sp>
          <p:nvSpPr>
            <p:cNvPr id="529" name=""/>
            <p:cNvSpPr/>
            <p:nvPr/>
          </p:nvSpPr>
          <p:spPr>
            <a:xfrm>
              <a:off x="76320" y="6172200"/>
              <a:ext cx="7238880" cy="609480"/>
            </a:xfrm>
            <a:prstGeom prst="rect">
              <a:avLst/>
            </a:prstGeom>
            <a:solidFill>
              <a:srgbClr val="ffff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71080" y="6247440"/>
              <a:ext cx="683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800000"/>
                  </a:solidFill>
                  <a:latin typeface="Arial"/>
                </a:rPr>
                <a:t>1 = CO address CO slightly ,  2 = moderately   3 = substantiv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1120" cy="838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3cccc">
                <a:alpha val="50000"/>
              </a:srgbClr>
            </a:outerShdw>
          </a:effectLst>
        </p:spPr>
      </p:pic>
      <p:sp>
        <p:nvSpPr>
          <p:cNvPr id="532" name=""/>
          <p:cNvSpPr/>
          <p:nvPr/>
        </p:nvSpPr>
        <p:spPr>
          <a:xfrm>
            <a:off x="5867280" y="6553080"/>
            <a:ext cx="3276720" cy="304920"/>
          </a:xfrm>
          <a:prstGeom prst="rect">
            <a:avLst/>
          </a:prstGeom>
          <a:solidFill>
            <a:srgbClr val="ffcc66"/>
          </a:solidFill>
          <a:ln cap="sq"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an Hamidon,  June 20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eps towards implementing OBE in curriculum desig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456840" y="2438280"/>
            <a:ext cx="7924680" cy="33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Arial"/>
              <a:buAutoNum type="arabicPeriod" startAt="6"/>
              <a:tabLst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epare a matrix of courses against PO (Course-PO Matrix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1055520" indent="-5364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icate the level of emphasis on PO by each cour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627200" indent="-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erage out the entries in the CO-PO matrix and insert in the Course-PO matri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627200" indent="-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sure PO are covered and distributed throughout the program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1120" cy="838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3cccc">
                <a:alpha val="50000"/>
              </a:srgbClr>
            </a:outerShdw>
          </a:effectLst>
        </p:spPr>
      </p:pic>
      <p:sp>
        <p:nvSpPr>
          <p:cNvPr id="536" name=""/>
          <p:cNvSpPr/>
          <p:nvPr/>
        </p:nvSpPr>
        <p:spPr>
          <a:xfrm>
            <a:off x="5867280" y="6553080"/>
            <a:ext cx="3276720" cy="304920"/>
          </a:xfrm>
          <a:prstGeom prst="rect">
            <a:avLst/>
          </a:prstGeom>
          <a:solidFill>
            <a:srgbClr val="ffcc66"/>
          </a:solidFill>
          <a:ln cap="sq"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an Hamidon,  June 20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-1523880" y="-228600"/>
            <a:ext cx="1219176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7" name=""/>
          <p:cNvGraphicFramePr/>
          <p:nvPr/>
        </p:nvGraphicFramePr>
        <p:xfrm>
          <a:off x="457200" y="914400"/>
          <a:ext cx="8686800" cy="53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14400"/>
                    <a:ext cx="8686800" cy="53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62880" y="6010200"/>
            <a:ext cx="681120" cy="8384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3cccc">
                <a:alpha val="50000"/>
              </a:srgbClr>
            </a:outerShdw>
          </a:effectLst>
        </p:spPr>
      </p:pic>
      <p:sp>
        <p:nvSpPr>
          <p:cNvPr id="540" name=""/>
          <p:cNvSpPr/>
          <p:nvPr/>
        </p:nvSpPr>
        <p:spPr>
          <a:xfrm>
            <a:off x="38088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04920" y="0"/>
            <a:ext cx="853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Example of Course – PO Matrix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457200" y="6381720"/>
            <a:ext cx="7238880" cy="476280"/>
            <a:chOff x="457200" y="6381720"/>
            <a:chExt cx="7238880" cy="476280"/>
          </a:xfrm>
        </p:grpSpPr>
        <p:sp>
          <p:nvSpPr>
            <p:cNvPr id="543" name=""/>
            <p:cNvSpPr/>
            <p:nvPr/>
          </p:nvSpPr>
          <p:spPr>
            <a:xfrm>
              <a:off x="457200" y="6381720"/>
              <a:ext cx="7238880" cy="476280"/>
            </a:xfrm>
            <a:prstGeom prst="rect">
              <a:avLst/>
            </a:prstGeom>
            <a:solidFill>
              <a:srgbClr val="ffff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51960" y="6401520"/>
              <a:ext cx="683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800000"/>
                  </a:solidFill>
                  <a:latin typeface="Arial"/>
                </a:rPr>
                <a:t>1 = CO address CO slightly ,  2 = moderately   3 = substantiv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eps towards implementing OBE in curriculum desig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7925040" cy="33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Arial"/>
              <a:buAutoNum type="arabicPeriod" startAt="7"/>
              <a:tabLst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dentify delivery/teaching method to ensure the student’s attainment of the PO – PBL, co-operative learning, capstone project, etc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1120" cy="838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3cccc">
                <a:alpha val="50000"/>
              </a:srgbClr>
            </a:outerShdw>
          </a:effectLst>
        </p:spPr>
      </p:pic>
      <p:sp>
        <p:nvSpPr>
          <p:cNvPr id="548" name=""/>
          <p:cNvSpPr/>
          <p:nvPr/>
        </p:nvSpPr>
        <p:spPr>
          <a:xfrm>
            <a:off x="5867280" y="6553080"/>
            <a:ext cx="3276720" cy="304920"/>
          </a:xfrm>
          <a:prstGeom prst="rect">
            <a:avLst/>
          </a:prstGeom>
          <a:solidFill>
            <a:srgbClr val="ffcc66"/>
          </a:solidFill>
          <a:ln cap="sq"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an Hamidon,  June 20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ample Delivery Structure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550" name=""/>
          <p:cNvGraphicFramePr/>
          <p:nvPr/>
        </p:nvGraphicFramePr>
        <p:xfrm>
          <a:off x="0" y="746280"/>
          <a:ext cx="9144000" cy="6111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46280"/>
                    <a:ext cx="9144000" cy="611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2" name=""/>
          <p:cNvSpPr/>
          <p:nvPr/>
        </p:nvSpPr>
        <p:spPr>
          <a:xfrm>
            <a:off x="5867280" y="6553080"/>
            <a:ext cx="3276720" cy="304920"/>
          </a:xfrm>
          <a:prstGeom prst="rect">
            <a:avLst/>
          </a:prstGeom>
          <a:solidFill>
            <a:srgbClr val="ffcc66"/>
          </a:solidFill>
          <a:ln cap="sq"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an Hamidon,  June 20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4819680" y="5791320"/>
            <a:ext cx="371520" cy="29664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219400" y="4106880"/>
            <a:ext cx="380880" cy="1981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086280" y="5181480"/>
            <a:ext cx="352080" cy="9064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952800" y="5562720"/>
            <a:ext cx="399960" cy="52524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343160" y="2743200"/>
            <a:ext cx="409320" cy="9921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1343160" y="3735360"/>
            <a:ext cx="409320" cy="235260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219400" y="2743200"/>
            <a:ext cx="380880" cy="17524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086280" y="2743200"/>
            <a:ext cx="352080" cy="2438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2800" y="2743200"/>
            <a:ext cx="399960" cy="28195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819680" y="2743200"/>
            <a:ext cx="371520" cy="30481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752480" y="3733920"/>
            <a:ext cx="333360" cy="236196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752480" y="2743200"/>
            <a:ext cx="333360" cy="99072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590920" y="4191120"/>
            <a:ext cx="361800" cy="190476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590920" y="2743200"/>
            <a:ext cx="361800" cy="144792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4495680"/>
            <a:ext cx="390600" cy="16002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343400" y="4876920"/>
            <a:ext cx="343080" cy="121896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181480" y="5257800"/>
            <a:ext cx="371520" cy="83808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429000" y="2744640"/>
            <a:ext cx="390600" cy="175104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343400" y="2744640"/>
            <a:ext cx="343080" cy="213228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181480" y="2744640"/>
            <a:ext cx="371520" cy="251316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791240" y="4352760"/>
            <a:ext cx="6188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Palatino"/>
              </a:rPr>
              <a:t>90%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800600" y="5850000"/>
            <a:ext cx="61920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Palatino"/>
              </a:rPr>
              <a:t>10%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952800" y="4122720"/>
            <a:ext cx="619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Palatino"/>
              </a:rPr>
              <a:t>80%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952800" y="5695920"/>
            <a:ext cx="619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Palatino"/>
              </a:rPr>
              <a:t>20%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048120" y="5468760"/>
            <a:ext cx="618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Palatino"/>
              </a:rPr>
              <a:t>30%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038400" y="3867120"/>
            <a:ext cx="619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Palatino"/>
              </a:rPr>
              <a:t>70%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2200320" y="3409920"/>
            <a:ext cx="619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Palatino"/>
              </a:rPr>
              <a:t>50%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200320" y="5162400"/>
            <a:ext cx="619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Palatino"/>
              </a:rPr>
              <a:t>50%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295280" y="3029040"/>
            <a:ext cx="619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Palatino"/>
              </a:rPr>
              <a:t>30%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1295280" y="4724280"/>
            <a:ext cx="61920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Palatino"/>
              </a:rPr>
              <a:t>70%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753160" y="4829040"/>
            <a:ext cx="247680" cy="24768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753160" y="5343480"/>
            <a:ext cx="247680" cy="24912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000840" y="5219640"/>
            <a:ext cx="1238040" cy="14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Palatino"/>
              </a:rPr>
              <a:t>Psychomotoric methodology</a:t>
            </a:r>
            <a:r>
              <a:rPr b="0" lang="en-US" sz="1200" spc="-1" strike="noStrike">
                <a:solidFill>
                  <a:srgbClr val="ffffff"/>
                </a:solidFill>
                <a:latin typeface="Palatino"/>
              </a:rPr>
              <a:t>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6000840" y="4705200"/>
            <a:ext cx="123804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Palatino"/>
              </a:rPr>
              <a:t>Cognitive methodolo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1343160" y="6181560"/>
            <a:ext cx="6188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Palatino"/>
              </a:rPr>
              <a:t>CER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2085840" y="6181560"/>
            <a:ext cx="8668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Palatino"/>
              </a:rPr>
              <a:t>DIPLOM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076560" y="6181560"/>
            <a:ext cx="7430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Palatino"/>
              </a:rPr>
              <a:t>DEGRE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819600" y="6181560"/>
            <a:ext cx="8668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Palatino"/>
              </a:rPr>
              <a:t>MASTE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4809960" y="6181560"/>
            <a:ext cx="7430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Palatino"/>
              </a:rPr>
              <a:t>Ph.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5095800" y="3886200"/>
            <a:ext cx="6192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Palatino"/>
              </a:rPr>
              <a:t>70%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095800" y="5486400"/>
            <a:ext cx="619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Palatino"/>
              </a:rPr>
              <a:t>30%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4267080" y="3657600"/>
            <a:ext cx="619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Palatino"/>
              </a:rPr>
              <a:t>60%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4267080" y="5334120"/>
            <a:ext cx="619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Palatino"/>
              </a:rPr>
              <a:t>40%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419640" y="5181480"/>
            <a:ext cx="618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Palatino"/>
              </a:rPr>
              <a:t>50%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419640" y="3429000"/>
            <a:ext cx="618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Palatino"/>
              </a:rPr>
              <a:t>50%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581200" y="3276720"/>
            <a:ext cx="619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Palatino"/>
              </a:rPr>
              <a:t>40%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581200" y="4952880"/>
            <a:ext cx="619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Palatino"/>
              </a:rPr>
              <a:t>60%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1676520" y="3048120"/>
            <a:ext cx="618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Palatino"/>
              </a:rPr>
              <a:t>30%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676520" y="4705200"/>
            <a:ext cx="618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Palatino"/>
              </a:rPr>
              <a:t>70%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810400" y="2762280"/>
            <a:ext cx="247680" cy="247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810400" y="3438360"/>
            <a:ext cx="247680" cy="2476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058080" y="3390840"/>
            <a:ext cx="11142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Palatino"/>
              </a:rPr>
              <a:t>Output</a:t>
            </a:r>
            <a:r>
              <a:rPr b="1" i="1" lang="en-US" sz="1000" spc="-1" strike="noStrike">
                <a:solidFill>
                  <a:srgbClr val="ffffff"/>
                </a:solidFill>
                <a:latin typeface="Palatino"/>
              </a:rPr>
              <a:t>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Palatino"/>
              </a:rPr>
              <a:t>Psycomotoric abilit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058080" y="2705040"/>
            <a:ext cx="1114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Palatino"/>
              </a:rPr>
              <a:t>Output</a:t>
            </a:r>
            <a:r>
              <a:rPr b="1" i="1" lang="en-US" sz="1000" spc="-1" strike="noStrike">
                <a:solidFill>
                  <a:srgbClr val="ffffff"/>
                </a:solidFill>
                <a:latin typeface="Palatino"/>
              </a:rPr>
              <a:t>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Palatino"/>
              </a:rPr>
              <a:t>Cognitif abilit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133200" y="6324480"/>
            <a:ext cx="400320" cy="40032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762120" y="762120"/>
            <a:ext cx="792468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EXPECTED OUTPUT VS DELIVERY METHO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5867280" y="6553080"/>
            <a:ext cx="3276720" cy="304920"/>
          </a:xfrm>
          <a:prstGeom prst="rect">
            <a:avLst/>
          </a:prstGeom>
          <a:solidFill>
            <a:srgbClr val="ffcc66"/>
          </a:solidFill>
          <a:ln cap="sq"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an Hamidon,  June 20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udents Workloa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7925040" cy="33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content as well as the delivery method contribute to students workloa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member, students available time in a week is 54 hours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1120" cy="838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3cccc">
                <a:alpha val="50000"/>
              </a:srgbClr>
            </a:outerShdw>
          </a:effectLst>
        </p:spPr>
      </p:pic>
      <p:sp>
        <p:nvSpPr>
          <p:cNvPr id="612" name=""/>
          <p:cNvSpPr/>
          <p:nvPr/>
        </p:nvSpPr>
        <p:spPr>
          <a:xfrm>
            <a:off x="5867280" y="6553080"/>
            <a:ext cx="3276720" cy="304920"/>
          </a:xfrm>
          <a:prstGeom prst="rect">
            <a:avLst/>
          </a:prstGeom>
          <a:solidFill>
            <a:srgbClr val="ffcc66"/>
          </a:solidFill>
          <a:ln cap="sq"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an Hamidon,  June 20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-81360" y="0"/>
            <a:ext cx="92962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Maximum Number of Subject per Semester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456840" y="2590560"/>
            <a:ext cx="79246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so, remember 1 credit = 40 hours student learning time per semester of 14 week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refore, 1 credit = 40/14 = 2.86 or about 3 hours per wee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means, humanly possible credit per week = 54/3 = 18 credi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w many subjects of 3 credits each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8/3 =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6 subjec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867280" y="6553080"/>
            <a:ext cx="3276720" cy="304920"/>
          </a:xfrm>
          <a:prstGeom prst="rect">
            <a:avLst/>
          </a:prstGeom>
          <a:solidFill>
            <a:srgbClr val="ffcc66"/>
          </a:solidFill>
          <a:ln cap="sq"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an Hamidon,  June 20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eps towards implementing OBE in curriculum desig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456840" y="2666880"/>
            <a:ext cx="7924680" cy="33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Arial"/>
              <a:buAutoNum type="arabicPeriod" startAt="8"/>
              <a:tabLst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dentify instruments and methods to be used in assessing the student’s attainment of the PO (known as Outcome Indicators  by Felder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Arial"/>
              <a:buAutoNum type="arabicPeriod" startAt="8"/>
              <a:tabLst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dentify instruments and methods to be used in assessing the graduates attainment of the PE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1120" cy="838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3cccc">
                <a:alpha val="50000"/>
              </a:srgbClr>
            </a:outerShdw>
          </a:effectLst>
        </p:spPr>
      </p:pic>
      <p:sp>
        <p:nvSpPr>
          <p:cNvPr id="619" name=""/>
          <p:cNvSpPr/>
          <p:nvPr/>
        </p:nvSpPr>
        <p:spPr>
          <a:xfrm>
            <a:off x="5867280" y="6553080"/>
            <a:ext cx="3276720" cy="304920"/>
          </a:xfrm>
          <a:prstGeom prst="rect">
            <a:avLst/>
          </a:prstGeom>
          <a:solidFill>
            <a:srgbClr val="ffcc66"/>
          </a:solidFill>
          <a:ln cap="sq"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an Hamidon,  June 20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" descr=""/>
          <p:cNvPicPr/>
          <p:nvPr/>
        </p:nvPicPr>
        <p:blipFill>
          <a:blip r:embed="rId1"/>
          <a:stretch/>
        </p:blipFill>
        <p:spPr>
          <a:xfrm>
            <a:off x="76320" y="184320"/>
            <a:ext cx="9067680" cy="6381720"/>
          </a:xfrm>
          <a:prstGeom prst="rect">
            <a:avLst/>
          </a:prstGeom>
          <a:ln w="0">
            <a:noFill/>
          </a:ln>
        </p:spPr>
      </p:pic>
      <p:sp>
        <p:nvSpPr>
          <p:cNvPr id="621" name=""/>
          <p:cNvSpPr/>
          <p:nvPr/>
        </p:nvSpPr>
        <p:spPr>
          <a:xfrm>
            <a:off x="2438280" y="990720"/>
            <a:ext cx="5029200" cy="1904760"/>
          </a:xfrm>
          <a:custGeom>
            <a:avLst/>
            <a:gdLst/>
            <a:ahLst/>
            <a:rect l="l" t="t" r="r" b="b"/>
            <a:pathLst>
              <a:path w="3464" h="1394">
                <a:moveTo>
                  <a:pt x="57" y="594"/>
                </a:moveTo>
                <a:cubicBezTo>
                  <a:pt x="85" y="511"/>
                  <a:pt x="139" y="450"/>
                  <a:pt x="194" y="384"/>
                </a:cubicBezTo>
                <a:cubicBezTo>
                  <a:pt x="262" y="302"/>
                  <a:pt x="324" y="190"/>
                  <a:pt x="432" y="155"/>
                </a:cubicBezTo>
                <a:cubicBezTo>
                  <a:pt x="533" y="79"/>
                  <a:pt x="648" y="73"/>
                  <a:pt x="770" y="64"/>
                </a:cubicBezTo>
                <a:cubicBezTo>
                  <a:pt x="868" y="33"/>
                  <a:pt x="970" y="44"/>
                  <a:pt x="1072" y="27"/>
                </a:cubicBezTo>
                <a:cubicBezTo>
                  <a:pt x="1224" y="2"/>
                  <a:pt x="1145" y="12"/>
                  <a:pt x="1310" y="0"/>
                </a:cubicBezTo>
                <a:cubicBezTo>
                  <a:pt x="1597" y="6"/>
                  <a:pt x="1861" y="7"/>
                  <a:pt x="2142" y="46"/>
                </a:cubicBezTo>
                <a:cubicBezTo>
                  <a:pt x="2271" y="125"/>
                  <a:pt x="2413" y="137"/>
                  <a:pt x="2562" y="146"/>
                </a:cubicBezTo>
                <a:cubicBezTo>
                  <a:pt x="2601" y="159"/>
                  <a:pt x="2624" y="188"/>
                  <a:pt x="2663" y="201"/>
                </a:cubicBezTo>
                <a:cubicBezTo>
                  <a:pt x="2675" y="210"/>
                  <a:pt x="2688" y="217"/>
                  <a:pt x="2699" y="228"/>
                </a:cubicBezTo>
                <a:cubicBezTo>
                  <a:pt x="2710" y="239"/>
                  <a:pt x="2715" y="255"/>
                  <a:pt x="2727" y="265"/>
                </a:cubicBezTo>
                <a:cubicBezTo>
                  <a:pt x="2770" y="304"/>
                  <a:pt x="2830" y="318"/>
                  <a:pt x="2873" y="356"/>
                </a:cubicBezTo>
                <a:cubicBezTo>
                  <a:pt x="2946" y="420"/>
                  <a:pt x="2891" y="384"/>
                  <a:pt x="2955" y="430"/>
                </a:cubicBezTo>
                <a:cubicBezTo>
                  <a:pt x="2995" y="459"/>
                  <a:pt x="3048" y="469"/>
                  <a:pt x="3083" y="503"/>
                </a:cubicBezTo>
                <a:cubicBezTo>
                  <a:pt x="3125" y="544"/>
                  <a:pt x="3173" y="580"/>
                  <a:pt x="3230" y="594"/>
                </a:cubicBezTo>
                <a:cubicBezTo>
                  <a:pt x="3262" y="627"/>
                  <a:pt x="3295" y="652"/>
                  <a:pt x="3339" y="667"/>
                </a:cubicBezTo>
                <a:cubicBezTo>
                  <a:pt x="3357" y="723"/>
                  <a:pt x="3387" y="769"/>
                  <a:pt x="3440" y="795"/>
                </a:cubicBezTo>
                <a:cubicBezTo>
                  <a:pt x="3464" y="917"/>
                  <a:pt x="3423" y="990"/>
                  <a:pt x="3348" y="1079"/>
                </a:cubicBezTo>
                <a:cubicBezTo>
                  <a:pt x="3315" y="1118"/>
                  <a:pt x="3285" y="1162"/>
                  <a:pt x="3239" y="1188"/>
                </a:cubicBezTo>
                <a:cubicBezTo>
                  <a:pt x="3210" y="1204"/>
                  <a:pt x="3176" y="1209"/>
                  <a:pt x="3147" y="1225"/>
                </a:cubicBezTo>
                <a:cubicBezTo>
                  <a:pt x="3087" y="1258"/>
                  <a:pt x="3005" y="1301"/>
                  <a:pt x="2937" y="1316"/>
                </a:cubicBezTo>
                <a:cubicBezTo>
                  <a:pt x="2790" y="1348"/>
                  <a:pt x="2819" y="1342"/>
                  <a:pt x="2690" y="1353"/>
                </a:cubicBezTo>
                <a:cubicBezTo>
                  <a:pt x="2503" y="1394"/>
                  <a:pt x="2714" y="1357"/>
                  <a:pt x="2370" y="1344"/>
                </a:cubicBezTo>
                <a:cubicBezTo>
                  <a:pt x="2105" y="1334"/>
                  <a:pt x="1840" y="1358"/>
                  <a:pt x="1575" y="1362"/>
                </a:cubicBezTo>
                <a:cubicBezTo>
                  <a:pt x="1414" y="1349"/>
                  <a:pt x="1261" y="1324"/>
                  <a:pt x="1099" y="1316"/>
                </a:cubicBezTo>
                <a:cubicBezTo>
                  <a:pt x="1040" y="1310"/>
                  <a:pt x="993" y="1298"/>
                  <a:pt x="935" y="1289"/>
                </a:cubicBezTo>
                <a:cubicBezTo>
                  <a:pt x="878" y="1265"/>
                  <a:pt x="839" y="1244"/>
                  <a:pt x="779" y="1234"/>
                </a:cubicBezTo>
                <a:cubicBezTo>
                  <a:pt x="733" y="1219"/>
                  <a:pt x="689" y="1209"/>
                  <a:pt x="642" y="1198"/>
                </a:cubicBezTo>
                <a:cubicBezTo>
                  <a:pt x="557" y="1138"/>
                  <a:pt x="680" y="1220"/>
                  <a:pt x="578" y="1170"/>
                </a:cubicBezTo>
                <a:cubicBezTo>
                  <a:pt x="461" y="1113"/>
                  <a:pt x="573" y="1148"/>
                  <a:pt x="487" y="1124"/>
                </a:cubicBezTo>
                <a:cubicBezTo>
                  <a:pt x="443" y="1092"/>
                  <a:pt x="392" y="1068"/>
                  <a:pt x="340" y="1051"/>
                </a:cubicBezTo>
                <a:cubicBezTo>
                  <a:pt x="278" y="1010"/>
                  <a:pt x="210" y="974"/>
                  <a:pt x="139" y="951"/>
                </a:cubicBezTo>
                <a:cubicBezTo>
                  <a:pt x="86" y="913"/>
                  <a:pt x="38" y="885"/>
                  <a:pt x="2" y="832"/>
                </a:cubicBezTo>
                <a:cubicBezTo>
                  <a:pt x="13" y="712"/>
                  <a:pt x="0" y="763"/>
                  <a:pt x="30" y="676"/>
                </a:cubicBezTo>
                <a:cubicBezTo>
                  <a:pt x="35" y="661"/>
                  <a:pt x="61" y="665"/>
                  <a:pt x="75" y="658"/>
                </a:cubicBezTo>
              </a:path>
            </a:pathLst>
          </a:custGeom>
          <a:noFill/>
          <a:ln cap="sq"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1828800" y="2895480"/>
            <a:ext cx="5538960" cy="3243240"/>
          </a:xfrm>
          <a:custGeom>
            <a:avLst/>
            <a:gdLst/>
            <a:ahLst/>
            <a:rect l="l" t="t" r="r" b="b"/>
            <a:pathLst>
              <a:path w="3454" h="1903">
                <a:moveTo>
                  <a:pt x="120" y="75"/>
                </a:moveTo>
                <a:cubicBezTo>
                  <a:pt x="103" y="144"/>
                  <a:pt x="80" y="190"/>
                  <a:pt x="38" y="249"/>
                </a:cubicBezTo>
                <a:cubicBezTo>
                  <a:pt x="16" y="339"/>
                  <a:pt x="9" y="411"/>
                  <a:pt x="2" y="505"/>
                </a:cubicBezTo>
                <a:cubicBezTo>
                  <a:pt x="8" y="586"/>
                  <a:pt x="0" y="703"/>
                  <a:pt x="38" y="779"/>
                </a:cubicBezTo>
                <a:cubicBezTo>
                  <a:pt x="44" y="791"/>
                  <a:pt x="59" y="795"/>
                  <a:pt x="66" y="806"/>
                </a:cubicBezTo>
                <a:cubicBezTo>
                  <a:pt x="158" y="937"/>
                  <a:pt x="251" y="1047"/>
                  <a:pt x="367" y="1154"/>
                </a:cubicBezTo>
                <a:cubicBezTo>
                  <a:pt x="439" y="1220"/>
                  <a:pt x="430" y="1183"/>
                  <a:pt x="514" y="1245"/>
                </a:cubicBezTo>
                <a:cubicBezTo>
                  <a:pt x="660" y="1353"/>
                  <a:pt x="483" y="1258"/>
                  <a:pt x="623" y="1327"/>
                </a:cubicBezTo>
                <a:cubicBezTo>
                  <a:pt x="775" y="1479"/>
                  <a:pt x="833" y="1531"/>
                  <a:pt x="1026" y="1638"/>
                </a:cubicBezTo>
                <a:cubicBezTo>
                  <a:pt x="1059" y="1656"/>
                  <a:pt x="1232" y="1692"/>
                  <a:pt x="1272" y="1702"/>
                </a:cubicBezTo>
                <a:cubicBezTo>
                  <a:pt x="1309" y="1711"/>
                  <a:pt x="1345" y="1725"/>
                  <a:pt x="1382" y="1730"/>
                </a:cubicBezTo>
                <a:cubicBezTo>
                  <a:pt x="1452" y="1740"/>
                  <a:pt x="1592" y="1748"/>
                  <a:pt x="1592" y="1748"/>
                </a:cubicBezTo>
                <a:cubicBezTo>
                  <a:pt x="1650" y="1769"/>
                  <a:pt x="1708" y="1791"/>
                  <a:pt x="1766" y="1812"/>
                </a:cubicBezTo>
                <a:cubicBezTo>
                  <a:pt x="1825" y="1834"/>
                  <a:pt x="2090" y="1844"/>
                  <a:pt x="2168" y="1849"/>
                </a:cubicBezTo>
                <a:cubicBezTo>
                  <a:pt x="2250" y="1854"/>
                  <a:pt x="2415" y="1867"/>
                  <a:pt x="2415" y="1867"/>
                </a:cubicBezTo>
                <a:cubicBezTo>
                  <a:pt x="2478" y="1887"/>
                  <a:pt x="2550" y="1890"/>
                  <a:pt x="2616" y="1903"/>
                </a:cubicBezTo>
                <a:cubicBezTo>
                  <a:pt x="2747" y="1900"/>
                  <a:pt x="2879" y="1899"/>
                  <a:pt x="3010" y="1894"/>
                </a:cubicBezTo>
                <a:cubicBezTo>
                  <a:pt x="3048" y="1892"/>
                  <a:pt x="3052" y="1879"/>
                  <a:pt x="3083" y="1858"/>
                </a:cubicBezTo>
                <a:cubicBezTo>
                  <a:pt x="3128" y="1828"/>
                  <a:pt x="3173" y="1795"/>
                  <a:pt x="3211" y="1757"/>
                </a:cubicBezTo>
                <a:cubicBezTo>
                  <a:pt x="3247" y="1721"/>
                  <a:pt x="3266" y="1648"/>
                  <a:pt x="3302" y="1602"/>
                </a:cubicBezTo>
                <a:cubicBezTo>
                  <a:pt x="3317" y="1563"/>
                  <a:pt x="3329" y="1540"/>
                  <a:pt x="3357" y="1510"/>
                </a:cubicBezTo>
                <a:cubicBezTo>
                  <a:pt x="3367" y="1459"/>
                  <a:pt x="3371" y="1442"/>
                  <a:pt x="3403" y="1401"/>
                </a:cubicBezTo>
                <a:cubicBezTo>
                  <a:pt x="3422" y="1343"/>
                  <a:pt x="3427" y="1287"/>
                  <a:pt x="3439" y="1227"/>
                </a:cubicBezTo>
                <a:cubicBezTo>
                  <a:pt x="3448" y="1073"/>
                  <a:pt x="3454" y="1100"/>
                  <a:pt x="3439" y="971"/>
                </a:cubicBezTo>
                <a:cubicBezTo>
                  <a:pt x="3431" y="906"/>
                  <a:pt x="3426" y="906"/>
                  <a:pt x="3403" y="834"/>
                </a:cubicBezTo>
                <a:cubicBezTo>
                  <a:pt x="3400" y="825"/>
                  <a:pt x="3394" y="806"/>
                  <a:pt x="3394" y="806"/>
                </a:cubicBezTo>
                <a:cubicBezTo>
                  <a:pt x="3378" y="690"/>
                  <a:pt x="3324" y="538"/>
                  <a:pt x="3256" y="441"/>
                </a:cubicBezTo>
                <a:cubicBezTo>
                  <a:pt x="3236" y="357"/>
                  <a:pt x="3121" y="232"/>
                  <a:pt x="3037" y="212"/>
                </a:cubicBezTo>
                <a:cubicBezTo>
                  <a:pt x="2995" y="177"/>
                  <a:pt x="2966" y="153"/>
                  <a:pt x="2918" y="130"/>
                </a:cubicBezTo>
                <a:cubicBezTo>
                  <a:pt x="2874" y="84"/>
                  <a:pt x="2820" y="68"/>
                  <a:pt x="2763" y="47"/>
                </a:cubicBezTo>
                <a:cubicBezTo>
                  <a:pt x="2474" y="53"/>
                  <a:pt x="2206" y="66"/>
                  <a:pt x="1922" y="84"/>
                </a:cubicBezTo>
                <a:cubicBezTo>
                  <a:pt x="1812" y="111"/>
                  <a:pt x="1687" y="84"/>
                  <a:pt x="1574" y="75"/>
                </a:cubicBezTo>
                <a:cubicBezTo>
                  <a:pt x="1490" y="47"/>
                  <a:pt x="1376" y="53"/>
                  <a:pt x="1291" y="47"/>
                </a:cubicBezTo>
                <a:cubicBezTo>
                  <a:pt x="1218" y="42"/>
                  <a:pt x="1071" y="29"/>
                  <a:pt x="1071" y="29"/>
                </a:cubicBezTo>
                <a:cubicBezTo>
                  <a:pt x="983" y="0"/>
                  <a:pt x="912" y="9"/>
                  <a:pt x="824" y="11"/>
                </a:cubicBezTo>
                <a:cubicBezTo>
                  <a:pt x="593" y="16"/>
                  <a:pt x="361" y="17"/>
                  <a:pt x="130" y="20"/>
                </a:cubicBezTo>
                <a:cubicBezTo>
                  <a:pt x="109" y="40"/>
                  <a:pt x="82" y="56"/>
                  <a:pt x="120" y="75"/>
                </a:cubicBezTo>
                <a:close/>
              </a:path>
            </a:pathLst>
          </a:custGeom>
          <a:noFill/>
          <a:ln cap="sq" w="763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81120" cy="838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3cccc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eps towards implementing OBE in curriculum desig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456840" y="2666880"/>
            <a:ext cx="7924680" cy="33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SzPct val="80000"/>
              <a:buFont typeface="Arial"/>
              <a:buAutoNum type="arabicPeriod" startAt="9"/>
              <a:tabLst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he performance targets, i.e. the target criteria for the Outcome Indicator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55520" indent="-5364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. the (average score, score earned by at least 80% of) the programme graduates on the (capstone design report, portfolio evaluation) must be at least 75/10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55520" indent="-5364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. the (median rating for, rating earned by at least 80% of) the programme graduates on the (self-rating sheet, peer rating sheet, senior survey, alumni survey, employer survey, final oral presentation) must be at least (75/100, 4.o 0n a Likert scale, “Very good”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1120" cy="838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3cccc">
                <a:alpha val="50000"/>
              </a:srgbClr>
            </a:outerShdw>
          </a:effectLst>
        </p:spPr>
      </p:pic>
      <p:sp>
        <p:nvSpPr>
          <p:cNvPr id="627" name=""/>
          <p:cNvSpPr/>
          <p:nvPr/>
        </p:nvSpPr>
        <p:spPr>
          <a:xfrm>
            <a:off x="5867280" y="6553080"/>
            <a:ext cx="3276720" cy="304920"/>
          </a:xfrm>
          <a:prstGeom prst="rect">
            <a:avLst/>
          </a:prstGeom>
          <a:solidFill>
            <a:srgbClr val="ffcc66"/>
          </a:solidFill>
          <a:ln cap="sq"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an Hamidon,  June 20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52560" y="6091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Continuous Quality Improvement (CQI)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subTitle"/>
          </p:nvPr>
        </p:nvSpPr>
        <p:spPr>
          <a:xfrm>
            <a:off x="509400" y="2590560"/>
            <a:ext cx="79246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ensure CQI of programme (which is mandatory in OBE), if the performance target is not met, track which component/s in the course (content, delivery, assessment methods, etc.), and try to improve or change where necessar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1120" cy="838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3cccc">
                <a:alpha val="50000"/>
              </a:srgbClr>
            </a:outerShdw>
          </a:effectLst>
        </p:spPr>
      </p:pic>
      <p:sp>
        <p:nvSpPr>
          <p:cNvPr id="631" name=""/>
          <p:cNvSpPr/>
          <p:nvPr/>
        </p:nvSpPr>
        <p:spPr>
          <a:xfrm>
            <a:off x="5867280" y="6553080"/>
            <a:ext cx="3276720" cy="304920"/>
          </a:xfrm>
          <a:prstGeom prst="rect">
            <a:avLst/>
          </a:prstGeom>
          <a:solidFill>
            <a:srgbClr val="ffcc66"/>
          </a:solidFill>
          <a:ln cap="sq"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an Hamidon,  June 20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-1523880" y="-228600"/>
            <a:ext cx="12191760" cy="73152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438280" y="914400"/>
            <a:ext cx="4496040" cy="1739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heart of OBE is a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2560" y="6091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Continuous Quality Improvement (CQI)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925040" cy="33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steps might be taken at the programme course levels to raise the level of achievement of the outcomes (PO)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1120" cy="838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3cccc">
                <a:alpha val="50000"/>
              </a:srgbClr>
            </a:outerShdw>
          </a:effectLst>
        </p:spPr>
      </p:pic>
      <p:sp>
        <p:nvSpPr>
          <p:cNvPr id="635" name=""/>
          <p:cNvSpPr/>
          <p:nvPr/>
        </p:nvSpPr>
        <p:spPr>
          <a:xfrm>
            <a:off x="5867280" y="6553080"/>
            <a:ext cx="3276720" cy="304920"/>
          </a:xfrm>
          <a:prstGeom prst="rect">
            <a:avLst/>
          </a:prstGeom>
          <a:solidFill>
            <a:srgbClr val="ffcc66"/>
          </a:solidFill>
          <a:ln cap="sq"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an Hamidon,  June 20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228600" y="2743200"/>
            <a:ext cx="853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7" name=""/>
          <p:cNvGrpSpPr/>
          <p:nvPr/>
        </p:nvGrpSpPr>
        <p:grpSpPr>
          <a:xfrm>
            <a:off x="0" y="1295280"/>
            <a:ext cx="9199440" cy="5562720"/>
            <a:chOff x="0" y="1295280"/>
            <a:chExt cx="9199440" cy="5562720"/>
          </a:xfrm>
        </p:grpSpPr>
        <p:sp>
          <p:nvSpPr>
            <p:cNvPr id="638" name=""/>
            <p:cNvSpPr/>
            <p:nvPr/>
          </p:nvSpPr>
          <p:spPr>
            <a:xfrm>
              <a:off x="0" y="1295280"/>
              <a:ext cx="9144000" cy="5562720"/>
            </a:xfrm>
            <a:prstGeom prst="rect">
              <a:avLst/>
            </a:prstGeom>
            <a:solidFill>
              <a:srgbClr val="0000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9" name=""/>
            <p:cNvGrpSpPr/>
            <p:nvPr/>
          </p:nvGrpSpPr>
          <p:grpSpPr>
            <a:xfrm>
              <a:off x="2666880" y="1371600"/>
              <a:ext cx="3809880" cy="685800"/>
              <a:chOff x="2666880" y="1371600"/>
              <a:chExt cx="3809880" cy="685800"/>
            </a:xfrm>
          </p:grpSpPr>
          <p:sp>
            <p:nvSpPr>
              <p:cNvPr id="640" name=""/>
              <p:cNvSpPr/>
              <p:nvPr/>
            </p:nvSpPr>
            <p:spPr>
              <a:xfrm>
                <a:off x="2666880" y="1371600"/>
                <a:ext cx="3809880" cy="685800"/>
              </a:xfrm>
              <a:prstGeom prst="rect">
                <a:avLst/>
              </a:prstGeom>
              <a:solidFill>
                <a:srgbClr val="00ff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3047760" y="1524240"/>
                <a:ext cx="3124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Arial"/>
                  </a:rPr>
                  <a:t>INSTITUTIONAL MISSION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42" name=""/>
            <p:cNvSpPr/>
            <p:nvPr/>
          </p:nvSpPr>
          <p:spPr>
            <a:xfrm>
              <a:off x="228600" y="1981080"/>
              <a:ext cx="1676520" cy="685800"/>
            </a:xfrm>
            <a:prstGeom prst="rect">
              <a:avLst/>
            </a:prstGeom>
            <a:solidFill>
              <a:srgbClr val="00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80880" y="205740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Educational Objectiv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28600" y="3048120"/>
              <a:ext cx="1676520" cy="761760"/>
            </a:xfrm>
            <a:prstGeom prst="flowChartAlternateProcess">
              <a:avLst/>
            </a:prstGeom>
            <a:solidFill>
              <a:srgbClr val="00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57200" y="312408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Assess &amp; Evaluat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57200" y="4267080"/>
              <a:ext cx="1523880" cy="685800"/>
            </a:xfrm>
            <a:prstGeom prst="octagon">
              <a:avLst>
                <a:gd name="adj" fmla="val 29287"/>
              </a:avLst>
            </a:prstGeom>
            <a:solidFill>
              <a:srgbClr val="00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57200" y="441972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Constituent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133720" y="5029200"/>
              <a:ext cx="2438280" cy="1523880"/>
            </a:xfrm>
            <a:prstGeom prst="ellipse">
              <a:avLst/>
            </a:prstGeom>
            <a:solidFill>
              <a:srgbClr val="00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438280" y="5334120"/>
              <a:ext cx="2133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Evaluation:  Interpretation of Evidence &amp; Dat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181480" y="5029200"/>
              <a:ext cx="2743200" cy="1600200"/>
            </a:xfrm>
            <a:prstGeom prst="ellipse">
              <a:avLst/>
            </a:prstGeom>
            <a:solidFill>
              <a:srgbClr val="00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562720" y="5257800"/>
              <a:ext cx="2438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Assessment:  Collection &amp; Analysis of Evidence &amp; Dat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477120" y="3809880"/>
              <a:ext cx="2666880" cy="76212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553080" y="3886200"/>
              <a:ext cx="259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Programme Learning Practices/Strategi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553080" y="2590920"/>
              <a:ext cx="2590920" cy="83808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705720" y="2590920"/>
              <a:ext cx="243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Measurable Performance Criteri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048120" y="2590920"/>
              <a:ext cx="2895480" cy="990360"/>
            </a:xfrm>
            <a:prstGeom prst="ellipse">
              <a:avLst/>
            </a:prstGeom>
            <a:solidFill>
              <a:srgbClr val="00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429000" y="2819520"/>
              <a:ext cx="228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Programme Outcom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895480" y="4114800"/>
              <a:ext cx="3048120" cy="685800"/>
            </a:xfrm>
            <a:prstGeom prst="rect">
              <a:avLst/>
            </a:prstGeom>
            <a:solidFill>
              <a:srgbClr val="00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4191120"/>
              <a:ext cx="2819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Feedback for Continuous Improvemen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V="1">
              <a:off x="1905120" y="1676520"/>
              <a:ext cx="761760" cy="45720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V="1">
              <a:off x="4572000" y="1981080"/>
              <a:ext cx="0" cy="60984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V="1">
              <a:off x="3352680" y="4800240"/>
              <a:ext cx="685800" cy="22860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 flipH="1" flipV="1">
              <a:off x="5029200" y="4800240"/>
              <a:ext cx="914400" cy="30492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 flipV="1">
              <a:off x="5943600" y="4191120"/>
              <a:ext cx="609480" cy="30456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 flipV="1">
              <a:off x="5943600" y="3352320"/>
              <a:ext cx="685800" cy="83844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 flipV="1">
              <a:off x="4495680" y="3504960"/>
              <a:ext cx="0" cy="60948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>
              <a:off x="1981080" y="4572000"/>
              <a:ext cx="990720" cy="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 flipV="1">
              <a:off x="1066680" y="2514240"/>
              <a:ext cx="0" cy="60948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066680" y="3809880"/>
              <a:ext cx="0" cy="45720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V="1">
              <a:off x="1905120" y="3124080"/>
              <a:ext cx="1143000" cy="15264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257800" y="2286000"/>
              <a:ext cx="1600200" cy="380880"/>
            </a:xfrm>
            <a:custGeom>
              <a:avLst/>
              <a:gdLst/>
              <a:ahLst/>
              <a:rect l="l" t="t" r="r" b="b"/>
              <a:pathLst>
                <a:path w="960" h="208">
                  <a:moveTo>
                    <a:pt x="0" y="208"/>
                  </a:moveTo>
                  <a:cubicBezTo>
                    <a:pt x="72" y="152"/>
                    <a:pt x="144" y="96"/>
                    <a:pt x="240" y="64"/>
                  </a:cubicBezTo>
                  <a:cubicBezTo>
                    <a:pt x="336" y="32"/>
                    <a:pt x="456" y="0"/>
                    <a:pt x="576" y="16"/>
                  </a:cubicBezTo>
                  <a:cubicBezTo>
                    <a:pt x="696" y="32"/>
                    <a:pt x="828" y="96"/>
                    <a:pt x="960" y="160"/>
                  </a:cubicBezTo>
                </a:path>
              </a:pathLst>
            </a:custGeom>
            <a:noFill/>
            <a:ln cap="sq" w="2556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rot="2509800">
              <a:off x="8026560" y="3231720"/>
              <a:ext cx="1085760" cy="496800"/>
            </a:xfrm>
            <a:custGeom>
              <a:avLst/>
              <a:gdLst/>
              <a:ahLst/>
              <a:rect l="l" t="t" r="r" b="b"/>
              <a:pathLst>
                <a:path w="960" h="208">
                  <a:moveTo>
                    <a:pt x="0" y="208"/>
                  </a:moveTo>
                  <a:cubicBezTo>
                    <a:pt x="72" y="152"/>
                    <a:pt x="144" y="96"/>
                    <a:pt x="240" y="64"/>
                  </a:cubicBezTo>
                  <a:cubicBezTo>
                    <a:pt x="336" y="32"/>
                    <a:pt x="456" y="0"/>
                    <a:pt x="576" y="16"/>
                  </a:cubicBezTo>
                  <a:cubicBezTo>
                    <a:pt x="696" y="32"/>
                    <a:pt x="828" y="96"/>
                    <a:pt x="960" y="160"/>
                  </a:cubicBezTo>
                </a:path>
              </a:pathLst>
            </a:custGeom>
            <a:noFill/>
            <a:ln cap="sq" w="2556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rot="7572000">
              <a:off x="7681680" y="5074920"/>
              <a:ext cx="1676160" cy="457200"/>
            </a:xfrm>
            <a:custGeom>
              <a:avLst/>
              <a:gdLst/>
              <a:ahLst/>
              <a:rect l="l" t="t" r="r" b="b"/>
              <a:pathLst>
                <a:path w="960" h="208">
                  <a:moveTo>
                    <a:pt x="0" y="208"/>
                  </a:moveTo>
                  <a:cubicBezTo>
                    <a:pt x="72" y="152"/>
                    <a:pt x="144" y="96"/>
                    <a:pt x="240" y="64"/>
                  </a:cubicBezTo>
                  <a:cubicBezTo>
                    <a:pt x="336" y="32"/>
                    <a:pt x="456" y="0"/>
                    <a:pt x="576" y="16"/>
                  </a:cubicBezTo>
                  <a:cubicBezTo>
                    <a:pt x="696" y="32"/>
                    <a:pt x="828" y="96"/>
                    <a:pt x="960" y="160"/>
                  </a:cubicBezTo>
                </a:path>
              </a:pathLst>
            </a:custGeom>
            <a:noFill/>
            <a:ln cap="sq" w="2556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 flipH="1" flipV="1">
              <a:off x="3885480" y="6248520"/>
              <a:ext cx="1600200" cy="380880"/>
            </a:xfrm>
            <a:custGeom>
              <a:avLst/>
              <a:gdLst/>
              <a:ahLst/>
              <a:rect l="l" t="t" r="r" b="b"/>
              <a:pathLst>
                <a:path w="960" h="208">
                  <a:moveTo>
                    <a:pt x="0" y="208"/>
                  </a:moveTo>
                  <a:cubicBezTo>
                    <a:pt x="72" y="152"/>
                    <a:pt x="144" y="96"/>
                    <a:pt x="240" y="64"/>
                  </a:cubicBezTo>
                  <a:cubicBezTo>
                    <a:pt x="336" y="32"/>
                    <a:pt x="456" y="0"/>
                    <a:pt x="576" y="16"/>
                  </a:cubicBezTo>
                  <a:cubicBezTo>
                    <a:pt x="696" y="32"/>
                    <a:pt x="828" y="96"/>
                    <a:pt x="960" y="160"/>
                  </a:cubicBezTo>
                </a:path>
              </a:pathLst>
            </a:custGeom>
            <a:noFill/>
            <a:ln cap="sq" w="2556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905120" y="2362320"/>
              <a:ext cx="1447560" cy="38088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headEnd len="lg" type="stealth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6" name=""/>
          <p:cNvSpPr/>
          <p:nvPr/>
        </p:nvSpPr>
        <p:spPr>
          <a:xfrm>
            <a:off x="1828800" y="304920"/>
            <a:ext cx="57578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SSESSMENT OF CQ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1120" cy="838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3cccc">
                <a:alpha val="50000"/>
              </a:srgbClr>
            </a:outerShdw>
          </a:effectLst>
        </p:spPr>
      </p:pic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296280" cy="94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ample Programme Educational Objective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-152280" y="76176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lvl="1" marL="8024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Produce graduates who: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1" marL="802440" indent="-43200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are competent with strong understanding of fundamental engineering knowledge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1" marL="802440" indent="-43200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have professional attitudes and ethics necessary in fulfilling his/her responsibilities towards the Creator, client and the society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1" marL="802440" indent="-43200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will uphold the Malay Language as a language of knowledge in the engineering field and at the same time has the ability to communicate in English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1" marL="802440" indent="-43200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is able to adapt him/herself to the international/global work environment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1" marL="802440" indent="-43200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is able to lead an organisation based on experience and knowledge of important current issues in engineering.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1" marL="802440" indent="-43200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is able to conduct research in his/her own organisation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828800" y="655308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Faculty of Engineering UK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3" name="" descr=""/>
          <p:cNvPicPr/>
          <p:nvPr/>
        </p:nvPicPr>
        <p:blipFill>
          <a:blip r:embed="rId1"/>
          <a:stretch/>
        </p:blipFill>
        <p:spPr>
          <a:xfrm>
            <a:off x="0" y="6172200"/>
            <a:ext cx="681120" cy="838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3cccc">
                <a:alpha val="50000"/>
              </a:srgbClr>
            </a:outerShdw>
          </a:effectLst>
        </p:spPr>
      </p:pic>
      <p:sp>
        <p:nvSpPr>
          <p:cNvPr id="684" name=""/>
          <p:cNvSpPr/>
          <p:nvPr/>
        </p:nvSpPr>
        <p:spPr>
          <a:xfrm>
            <a:off x="5867280" y="6553080"/>
            <a:ext cx="3276720" cy="30492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an Hamidon,  June 20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550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ample Programme Outcome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0" y="762120"/>
            <a:ext cx="9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ach graduate will demonstrate the following by the time of gradua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228600" y="1179360"/>
            <a:ext cx="8686800" cy="56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n ability to apply knowledge of mathematics, science, and engine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n ability to design and conduct experiments, as well as to analyse and interpret data in relation to research wor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n ability to design a system, component, or process to meet desired needs within realistic constrai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n ability to function on multi-disciplinary tea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n ability to identify, formulate and solve engineering 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n ability to use the techniques, skills, and engineering tools necessary for engineering pract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n understanding of professional and ethical responsibi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n ability to communicate effective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n understanding of the impact of engineering solutions in a global, economic, environmental, and societal con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n ability to recognise the need to undertake life-long learn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n ability to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ttain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nowledge of contemporary issue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1120" cy="838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3cccc">
                <a:alpha val="50000"/>
              </a:srgbClr>
            </a:outerShdw>
          </a:effectLst>
        </p:spPr>
      </p:pic>
      <p:sp>
        <p:nvSpPr>
          <p:cNvPr id="691" name=""/>
          <p:cNvSpPr/>
          <p:nvPr/>
        </p:nvSpPr>
        <p:spPr>
          <a:xfrm>
            <a:off x="6705720" y="6553080"/>
            <a:ext cx="2438280" cy="304920"/>
          </a:xfrm>
          <a:prstGeom prst="rect">
            <a:avLst/>
          </a:prstGeom>
          <a:solidFill>
            <a:srgbClr val="ffcc99"/>
          </a:solidFill>
          <a:ln cap="sq" w="12600">
            <a:solidFill>
              <a:srgbClr val="b600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an Hamidon,  June 20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9550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ple of Illustrative Course Outcome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152280" y="990720"/>
            <a:ext cx="8915400" cy="59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33480" indent="-1833480">
              <a:spcBef>
                <a:spcPts val="1500"/>
              </a:spcBef>
              <a:tabLst>
                <a:tab algn="l" pos="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  <a:tab algn="l" pos="3543480"/>
                <a:tab algn="l" pos="3657600"/>
                <a:tab algn="l" pos="3772080"/>
                <a:tab algn="l" pos="3886200"/>
                <a:tab algn="l" pos="4000680"/>
                <a:tab algn="l" pos="41148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 P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 ability to design and conduct experiments, as well as to analyse and interpret data in relation to research 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833480" indent="-1833480">
              <a:spcBef>
                <a:spcPts val="1500"/>
              </a:spcBef>
              <a:tabLst>
                <a:tab algn="l" pos="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  <a:tab algn="l" pos="3543480"/>
                <a:tab algn="l" pos="3657600"/>
                <a:tab algn="l" pos="3772080"/>
                <a:tab algn="l" pos="3886200"/>
                <a:tab algn="l" pos="4000680"/>
                <a:tab algn="l" pos="41148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 of Related C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833480" indent="-1833480">
              <a:spcBef>
                <a:spcPts val="1500"/>
              </a:spcBef>
              <a:tabLst>
                <a:tab algn="l" pos="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  <a:tab algn="l" pos="3543480"/>
                <a:tab algn="l" pos="3657600"/>
                <a:tab algn="l" pos="3772080"/>
                <a:tab algn="l" pos="3886200"/>
                <a:tab algn="l" pos="4000680"/>
                <a:tab algn="l" pos="41148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tudent will be able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293920" indent="-17316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  <a:tab algn="l" pos="3543480"/>
                <a:tab algn="l" pos="3657600"/>
                <a:tab algn="l" pos="3772080"/>
                <a:tab algn="l" pos="3886200"/>
                <a:tab algn="l" pos="4000680"/>
                <a:tab algn="l" pos="4114800"/>
                <a:tab algn="l" pos="4229280"/>
                <a:tab algn="l" pos="4343400"/>
                <a:tab algn="l" pos="4457880"/>
                <a:tab algn="l" pos="4572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 an experiment to (insert one or more goals or functions) and report the results (insert specifications regarding the required scope and structure of the report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293920" indent="-17316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  <a:tab algn="l" pos="3543480"/>
                <a:tab algn="l" pos="3657600"/>
                <a:tab algn="l" pos="3772080"/>
                <a:tab algn="l" pos="3886200"/>
                <a:tab algn="l" pos="4000680"/>
                <a:tab algn="l" pos="4114800"/>
                <a:tab algn="l" pos="4229280"/>
                <a:tab algn="l" pos="4343400"/>
                <a:tab algn="l" pos="4457880"/>
                <a:tab algn="l" pos="4572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duct (or simulate) an experiment to (insert specifications about the goals of the experiment) and report the results (insert specifications regarding the scope and structure of the report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6" name="" descr=""/>
          <p:cNvPicPr/>
          <p:nvPr/>
        </p:nvPicPr>
        <p:blipFill>
          <a:blip r:embed="rId1"/>
          <a:stretch/>
        </p:blipFill>
        <p:spPr>
          <a:xfrm>
            <a:off x="0" y="6027840"/>
            <a:ext cx="681120" cy="838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3cccc">
                <a:alpha val="50000"/>
              </a:srgbClr>
            </a:outerShdw>
          </a:effectLst>
        </p:spPr>
      </p:pic>
      <p:sp>
        <p:nvSpPr>
          <p:cNvPr id="697" name=""/>
          <p:cNvSpPr/>
          <p:nvPr/>
        </p:nvSpPr>
        <p:spPr>
          <a:xfrm>
            <a:off x="5867280" y="6553080"/>
            <a:ext cx="3276720" cy="30492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an Hamidon,  June 20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9550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ple of Illustrative Course Outcome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152280" y="1066680"/>
            <a:ext cx="891540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33480" indent="-1833480">
              <a:spcBef>
                <a:spcPts val="1500"/>
              </a:spcBef>
              <a:tabLst>
                <a:tab algn="l" pos="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  <a:tab algn="l" pos="3543480"/>
                <a:tab algn="l" pos="3657600"/>
                <a:tab algn="l" pos="3772080"/>
                <a:tab algn="l" pos="3886200"/>
                <a:tab algn="l" pos="4000680"/>
                <a:tab algn="l" pos="41148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 P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n understanding of professional and ethical responsi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833480" indent="-1833480">
              <a:spcBef>
                <a:spcPts val="1500"/>
              </a:spcBef>
              <a:tabLst>
                <a:tab algn="l" pos="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  <a:tab algn="l" pos="3543480"/>
                <a:tab algn="l" pos="3657600"/>
                <a:tab algn="l" pos="3772080"/>
                <a:tab algn="l" pos="3886200"/>
                <a:tab algn="l" pos="4000680"/>
                <a:tab algn="l" pos="41148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 of Related C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833480" indent="-1833480">
              <a:spcBef>
                <a:spcPts val="1500"/>
              </a:spcBef>
              <a:tabLst>
                <a:tab algn="l" pos="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  <a:tab algn="l" pos="3543480"/>
                <a:tab algn="l" pos="3657600"/>
                <a:tab algn="l" pos="3772080"/>
                <a:tab algn="l" pos="3886200"/>
                <a:tab algn="l" pos="4000680"/>
                <a:tab algn="l" pos="41148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iven a job-related scenario that requires a decision with ethical implications, the student will be able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46384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  <a:tab algn="l" pos="3543480"/>
                <a:tab algn="l" pos="3657600"/>
                <a:tab algn="l" pos="3772080"/>
                <a:tab algn="l" pos="3886200"/>
                <a:tab algn="l" pos="4000680"/>
                <a:tab algn="l" pos="4114800"/>
                <a:tab algn="l" pos="4229280"/>
                <a:tab algn="l" pos="4343400"/>
                <a:tab algn="l" pos="4457880"/>
                <a:tab algn="l" pos="4572000"/>
                <a:tab algn="l" pos="4686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ntify possible courses of action and discuss the pros and cons of each ot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46384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  <a:tab algn="l" pos="3543480"/>
                <a:tab algn="l" pos="3657600"/>
                <a:tab algn="l" pos="3772080"/>
                <a:tab algn="l" pos="3886200"/>
                <a:tab algn="l" pos="4000680"/>
                <a:tab algn="l" pos="4114800"/>
                <a:tab algn="l" pos="4229280"/>
                <a:tab algn="l" pos="4343400"/>
                <a:tab algn="l" pos="4457880"/>
                <a:tab algn="l" pos="4572000"/>
                <a:tab algn="l" pos="4686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ide on the best course of action and justify the deci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2" name="" descr=""/>
          <p:cNvPicPr/>
          <p:nvPr/>
        </p:nvPicPr>
        <p:blipFill>
          <a:blip r:embed="rId1"/>
          <a:stretch/>
        </p:blipFill>
        <p:spPr>
          <a:xfrm>
            <a:off x="0" y="6027840"/>
            <a:ext cx="681120" cy="838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3cccc">
                <a:alpha val="50000"/>
              </a:srgbClr>
            </a:outerShdw>
          </a:effectLst>
        </p:spPr>
      </p:pic>
      <p:sp>
        <p:nvSpPr>
          <p:cNvPr id="703" name=""/>
          <p:cNvSpPr/>
          <p:nvPr/>
        </p:nvSpPr>
        <p:spPr>
          <a:xfrm>
            <a:off x="5867280" y="6553080"/>
            <a:ext cx="3276720" cy="304920"/>
          </a:xfrm>
          <a:prstGeom prst="rect">
            <a:avLst/>
          </a:prstGeom>
          <a:solidFill>
            <a:srgbClr val="ffcc00"/>
          </a:solidFill>
          <a:ln cap="sq"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an Hamidon,  June 20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9550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ple of Illustrative Course Outcome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52280" y="1066680"/>
            <a:ext cx="8915400" cy="58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33480" indent="-1833480">
              <a:spcBef>
                <a:spcPts val="1500"/>
              </a:spcBef>
              <a:tabLst>
                <a:tab algn="l" pos="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  <a:tab algn="l" pos="3543480"/>
                <a:tab algn="l" pos="3657600"/>
                <a:tab algn="l" pos="3772080"/>
                <a:tab algn="l" pos="3886200"/>
                <a:tab algn="l" pos="4000680"/>
                <a:tab algn="l" pos="41148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 P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n ability to function on multi-disciplinary tea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833480" indent="-1833480">
              <a:spcBef>
                <a:spcPts val="1500"/>
              </a:spcBef>
              <a:tabLst>
                <a:tab algn="l" pos="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  <a:tab algn="l" pos="3543480"/>
                <a:tab algn="l" pos="3657600"/>
                <a:tab algn="l" pos="3772080"/>
                <a:tab algn="l" pos="3886200"/>
                <a:tab algn="l" pos="4000680"/>
                <a:tab algn="l" pos="41148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 of Related C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833480" indent="-1833480">
              <a:spcBef>
                <a:spcPts val="1500"/>
              </a:spcBef>
              <a:tabLst>
                <a:tab algn="l" pos="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  <a:tab algn="l" pos="3543480"/>
                <a:tab algn="l" pos="3657600"/>
                <a:tab algn="l" pos="3772080"/>
                <a:tab algn="l" pos="3886200"/>
                <a:tab algn="l" pos="4000680"/>
                <a:tab algn="l" pos="41148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tudent will be able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46384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  <a:tab algn="l" pos="3543480"/>
                <a:tab algn="l" pos="3657600"/>
                <a:tab algn="l" pos="3772080"/>
                <a:tab algn="l" pos="3886200"/>
                <a:tab algn="l" pos="4000680"/>
                <a:tab algn="l" pos="4114800"/>
                <a:tab algn="l" pos="4229280"/>
                <a:tab algn="l" pos="4343400"/>
                <a:tab algn="l" pos="4457880"/>
                <a:tab algn="l" pos="4572000"/>
                <a:tab algn="l" pos="4686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ntify the stages of team development and give examples of team behaviours that are characteristic of each st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46384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  <a:tab algn="l" pos="3543480"/>
                <a:tab algn="l" pos="3657600"/>
                <a:tab algn="l" pos="3772080"/>
                <a:tab algn="l" pos="3886200"/>
                <a:tab algn="l" pos="4000680"/>
                <a:tab algn="l" pos="4114800"/>
                <a:tab algn="l" pos="4229280"/>
                <a:tab algn="l" pos="4343400"/>
                <a:tab algn="l" pos="4457880"/>
                <a:tab algn="l" pos="4572000"/>
                <a:tab algn="l" pos="4686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mmarise effective strategies for dealing with a variety of interpersonal and communication problems that commonly arise in teamwork, choose the best of several given strategies for a specified problem, and justify the cho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46384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  <a:tab algn="l" pos="3543480"/>
                <a:tab algn="l" pos="3657600"/>
                <a:tab algn="l" pos="3772080"/>
                <a:tab algn="l" pos="3886200"/>
                <a:tab algn="l" pos="4000680"/>
                <a:tab algn="l" pos="4114800"/>
                <a:tab algn="l" pos="4229280"/>
                <a:tab algn="l" pos="4343400"/>
                <a:tab algn="l" pos="4457880"/>
                <a:tab algn="l" pos="4572000"/>
                <a:tab algn="l" pos="4686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8" name="" descr=""/>
          <p:cNvPicPr/>
          <p:nvPr/>
        </p:nvPicPr>
        <p:blipFill>
          <a:blip r:embed="rId1"/>
          <a:stretch/>
        </p:blipFill>
        <p:spPr>
          <a:xfrm>
            <a:off x="0" y="6027840"/>
            <a:ext cx="681120" cy="838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3cccc">
                <a:alpha val="50000"/>
              </a:srgbClr>
            </a:outerShdw>
          </a:effectLst>
        </p:spPr>
      </p:pic>
      <p:sp>
        <p:nvSpPr>
          <p:cNvPr id="709" name=""/>
          <p:cNvSpPr/>
          <p:nvPr/>
        </p:nvSpPr>
        <p:spPr>
          <a:xfrm>
            <a:off x="5867280" y="6553080"/>
            <a:ext cx="3276720" cy="304920"/>
          </a:xfrm>
          <a:prstGeom prst="rect">
            <a:avLst/>
          </a:prstGeom>
          <a:solidFill>
            <a:srgbClr val="ffcc99"/>
          </a:solidFill>
          <a:ln cap="sq" w="12600">
            <a:solidFill>
              <a:srgbClr val="b600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an Hamidon,  June 20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85800" y="914400"/>
            <a:ext cx="8305920" cy="80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indent="1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338560"/>
                <a:tab algn="l" pos="4676760"/>
                <a:tab algn="l" pos="7015320"/>
                <a:tab algn="l" pos="93535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Prof. Bradle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114480" indent="1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338560"/>
                <a:tab algn="l" pos="4676760"/>
                <a:tab algn="l" pos="7015320"/>
                <a:tab algn="l" pos="93535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Prof. Fletch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114480" indent="1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338560"/>
                <a:tab algn="l" pos="4676760"/>
                <a:tab algn="l" pos="7015320"/>
                <a:tab algn="l" pos="93535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ABE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114480" indent="1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338560"/>
                <a:tab algn="l" pos="4676760"/>
                <a:tab algn="l" pos="7015320"/>
                <a:tab algn="l" pos="93535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Bahagian Jaminan Kualiti, Kementerian Pengajian Tinggi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114480" indent="1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338560"/>
                <a:tab algn="l" pos="4676760"/>
                <a:tab algn="l" pos="7015320"/>
                <a:tab algn="l" pos="93535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LA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114480" indent="1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338560"/>
                <a:tab algn="l" pos="4676760"/>
                <a:tab algn="l" pos="7015320"/>
                <a:tab algn="l" pos="93535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Prof. Mokhtar Abdullah, Ad-Macs Corp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114480" indent="1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338560"/>
                <a:tab algn="l" pos="4676760"/>
                <a:tab algn="l" pos="7015320"/>
                <a:tab algn="l" pos="93535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Prof. Ir. Dr. Hassan Basri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114480" indent="1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338560"/>
                <a:tab algn="l" pos="4676760"/>
                <a:tab algn="l" pos="7015320"/>
                <a:tab algn="l" pos="93535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Prof. Madya Ir. Dr. Riza Atiq Abdullah O.K. Rah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114480" indent="1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338560"/>
                <a:tab algn="l" pos="4676760"/>
                <a:tab algn="l" pos="7015320"/>
                <a:tab algn="l" pos="93535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etc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114480" indent="1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338560"/>
                <a:tab algn="l" pos="4676760"/>
                <a:tab algn="l" pos="7015320"/>
                <a:tab algn="l" pos="93535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114480" indent="1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338560"/>
                <a:tab algn="l" pos="4676760"/>
                <a:tab algn="l" pos="7015320"/>
                <a:tab algn="l" pos="93535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114480" indent="1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338560"/>
                <a:tab algn="l" pos="4676760"/>
                <a:tab algn="l" pos="7015320"/>
                <a:tab algn="l" pos="93535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114480" indent="1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338560"/>
                <a:tab algn="l" pos="4676760"/>
                <a:tab algn="l" pos="7015320"/>
                <a:tab algn="l" pos="93535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2" name="" descr=""/>
          <p:cNvPicPr/>
          <p:nvPr/>
        </p:nvPicPr>
        <p:blipFill>
          <a:blip r:embed="rId1"/>
          <a:stretch/>
        </p:blipFill>
        <p:spPr>
          <a:xfrm>
            <a:off x="0" y="6019920"/>
            <a:ext cx="681120" cy="838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3cccc">
                <a:alpha val="50000"/>
              </a:srgbClr>
            </a:outerShdw>
          </a:effectLst>
        </p:spPr>
      </p:pic>
      <p:sp>
        <p:nvSpPr>
          <p:cNvPr id="713" name=""/>
          <p:cNvSpPr/>
          <p:nvPr/>
        </p:nvSpPr>
        <p:spPr>
          <a:xfrm>
            <a:off x="5867280" y="6553080"/>
            <a:ext cx="3276720" cy="304920"/>
          </a:xfrm>
          <a:prstGeom prst="rect">
            <a:avLst/>
          </a:prstGeom>
          <a:solidFill>
            <a:srgbClr val="ffcc66"/>
          </a:solidFill>
          <a:ln cap="sq"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an Hamidon,  June 20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5" name=""/>
          <p:cNvSpPr txBox="1"/>
          <p:nvPr/>
        </p:nvSpPr>
        <p:spPr>
          <a:xfrm>
            <a:off x="1523880" y="2057400"/>
            <a:ext cx="61722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THANK YOU</a:t>
            </a:r>
            <a:endParaRPr b="1" lang="en-US" sz="4000" spc="1" strike="noStrike">
              <a:ln w="0">
                <a:noFill/>
              </a:ln>
              <a:solidFill>
                <a:srgbClr val="ff33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p:transition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-1523880" y="-228600"/>
            <a:ext cx="1219176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-1523880" y="-228600"/>
            <a:ext cx="1219176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-1523880" y="-228600"/>
            <a:ext cx="12191760" cy="73152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905120" y="2362320"/>
            <a:ext cx="7617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04880" y="4876920"/>
            <a:ext cx="838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E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729400"/>
            <a:ext cx="685800" cy="24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28720" y="5634000"/>
            <a:ext cx="685800" cy="24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1523880" y="-228600"/>
            <a:ext cx="12191760" cy="73152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571760" y="3029040"/>
            <a:ext cx="838080" cy="24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91480" y="3076560"/>
            <a:ext cx="838080" cy="24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91360" y="2662200"/>
            <a:ext cx="2057400" cy="48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ff"/>
                </a:solidFill>
                <a:latin typeface="Times New Roman"/>
              </a:rPr>
              <a:t>Stakehold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-1523880" y="-228600"/>
            <a:ext cx="12191760" cy="7315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371600" y="1976400"/>
            <a:ext cx="838080" cy="24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10280" y="2176560"/>
            <a:ext cx="838440" cy="24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467480" y="5791320"/>
            <a:ext cx="685800" cy="24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95280" y="5729400"/>
            <a:ext cx="1752840" cy="24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-1523880" y="-228600"/>
            <a:ext cx="12191760" cy="73152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705720" y="685800"/>
            <a:ext cx="990360" cy="39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6T13:58:43Z</dcterms:created>
  <dc:creator>faizal</dc:creator>
  <dc:description/>
  <dc:language>en-US</dc:language>
  <cp:lastModifiedBy>YAZLINA SADURI</cp:lastModifiedBy>
  <dcterms:modified xsi:type="dcterms:W3CDTF">2005-06-22T04:40:17Z</dcterms:modified>
  <cp:revision>960</cp:revision>
  <dc:subject/>
  <dc:title>The Study on Strength Tests for High Strength Concrete Used for Cable Stayed Bridges in Malaysia </dc:title>
</cp:coreProperties>
</file>